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1FB8-DA15-4E90-9496-A388A2CDDB8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855880" y="8710560"/>
            <a:ext cx="1144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32625CA-8C80-42D0-9F1D-C35E7C8EF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Img"/>
          </p:nvPr>
        </p:nvSpPr>
        <p:spPr>
          <a:xfrm>
            <a:off x="1150920" y="694800"/>
            <a:ext cx="4556160" cy="341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C814-FFBF-4555-9B0F-A17AD9B7A40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CAB2-F470-45D0-A642-EC775CF975A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83ED-BC00-4DDF-B358-F33FB1F5BC2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2F84-53A6-450E-B6BA-573A9F7DC74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AC5C-711C-4211-A41F-1BF9B1823A7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6CE7-F116-4390-8B91-0AB1CECC9C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F6C0-EA3B-4CEC-B625-9B46F0FAB8C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7886-9F4B-4374-B9A5-F2C1AFC09DF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02F2-03FB-4A80-AA95-5C7F9F9028C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AD91-A017-46C4-BFBB-81167DBDA3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B71C-2A12-4DD3-BCF0-00FBC3CFDDF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B44B-39E0-4E26-BD29-DE068A728A7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8E5D-7BB8-452E-AB92-FC7DC2DDE30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FC42-F61A-45DD-A7B9-A44B71F3229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8630-DE97-4736-9F64-E28AA2F7AFA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31E9-5AF3-41D1-8988-C73E51BF3D1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C9FC-17EC-4BD0-B14C-B5FBA0FC690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19ED-72CE-4C02-95DE-1FB6377CECB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1460-9203-4E50-9028-C860F781FE3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7394-066D-449F-8636-E5162B1CDFD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2B02-0898-42F6-A94F-29480DC1E10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B68A-DABA-4F48-9B6B-98374A2C479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21D5-5010-4114-BEC9-8AE1DF800DF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EDC3-4BDD-4636-A300-E0F21D4D29A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7B1F-5D74-42B0-BF27-9067C1180DB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95B9-8E03-4765-ADB0-2131D74AC75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14C1-F79C-49A7-8C3C-29A89B3B8E5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71E9-7691-47C1-95B5-4573E05CCA9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8D1D-8385-40D8-B76F-4F42CF842B3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A96C-3B9A-4EE9-93F1-232A6138322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7CD4-04BE-47E1-946C-BB28FC0A285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8AFA-8AAA-4220-8034-5EB0D4E0700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1760-79FA-498D-8FED-BFF8D32B634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4C1F-6D24-4784-99AC-41FE07F56BA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6FB0-7AE3-4166-8A1B-20018FABCE8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FD81-5355-4AD5-B78F-094EB61FB0E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CA3F-7A84-4E17-B7FC-CBED2DE1B5D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6316-96C3-4629-8D27-7E688662BD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5B27-5C72-4BD2-AF49-CA81461EDD5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2C5B-DD7B-45BE-B446-4616DA2CD6D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8729-CAED-45B2-B6A0-6D16E3AAD30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4276-8F9A-4B96-8563-1E4DAF8F2B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A30B-D5DF-4D4C-838E-8F7982B7818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75E7-1E09-45CA-A89F-B296591AE3B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C52C-4F1E-40C6-A789-BEBE2BCDAF0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4E60-F5D0-4A44-BCAD-ED5B6FEE7D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C93-0A9B-4A0C-9955-D230D1B69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7EB9-9260-4707-8BEA-8A2DED9C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2F16-F81A-4AC2-9A81-B6DB07BE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EBB-BDAC-4F85-884A-97CDCFF0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8686-DB7B-4B62-9447-3CF8100B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C18E-7A7B-4ED7-95D9-E138C424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9770-D841-4CDE-B5C9-C2F363D1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1ED20-8EA4-466F-BB2E-B6509D96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21B6-243E-41B5-AEE2-17290DE0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66D0-E870-47D2-B915-FD6144EB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9F5F-46E9-4D62-BF44-4A5C2FDE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D8C3-C588-444B-9AB5-2530B36B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A19A-DAB0-4F82-B2C8-406CA8F7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BBE5-C704-40BA-8BC4-14D2B2E8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CA48-8D97-4E47-9A53-347C8645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DDF9-B8E5-4EFE-8BB2-EAB7D5A6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C21A-0485-424F-B7A5-EE3ABEFB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709C-9CB6-42AE-B403-ABBF9F8A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AD93-BA59-405B-9D9F-B8FC9974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B165-8C07-4B1A-98D2-3D127024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8E7-CEE3-412F-9944-769766B4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680E-C61E-45A5-BA11-400B68D4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C7D-155C-4B06-9462-BE3BCA0E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EF7-3E72-40FE-A0AC-13F946C0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2CD8-77F6-4C0A-9A09-DBC145C70FE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3E74-99CD-4D6A-912A-84EC533F920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914400" y="838080"/>
            <a:ext cx="74674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Group 32"/>
          <p:cNvGrpSpPr/>
          <p:nvPr/>
        </p:nvGrpSpPr>
        <p:grpSpPr>
          <a:xfrm>
            <a:off x="1828800" y="1828800"/>
            <a:ext cx="5486400" cy="4221000"/>
            <a:chOff x="1828800" y="1828800"/>
            <a:chExt cx="5486400" cy="4221000"/>
          </a:xfrm>
        </p:grpSpPr>
        <p:sp>
          <p:nvSpPr>
            <p:cNvPr id="102" name="Freeform 5"/>
            <p:cNvSpPr/>
            <p:nvPr/>
          </p:nvSpPr>
          <p:spPr>
            <a:xfrm>
              <a:off x="1828800" y="2346120"/>
              <a:ext cx="5221440" cy="1849680"/>
            </a:xfrm>
            <a:custGeom>
              <a:avLst/>
              <a:gdLst/>
              <a:ahLst/>
              <a:rect l="l" t="t" r="r" b="b"/>
              <a:pathLst>
                <a:path w="3289" h="1165">
                  <a:moveTo>
                    <a:pt x="1070" y="1160"/>
                  </a:moveTo>
                  <a:lnTo>
                    <a:pt x="1144" y="1164"/>
                  </a:lnTo>
                  <a:lnTo>
                    <a:pt x="1220" y="1165"/>
                  </a:lnTo>
                  <a:lnTo>
                    <a:pt x="1296" y="1165"/>
                  </a:lnTo>
                  <a:lnTo>
                    <a:pt x="1372" y="1165"/>
                  </a:lnTo>
                  <a:lnTo>
                    <a:pt x="1448" y="1162"/>
                  </a:lnTo>
                  <a:lnTo>
                    <a:pt x="1523" y="1157"/>
                  </a:lnTo>
                  <a:lnTo>
                    <a:pt x="1601" y="1153"/>
                  </a:lnTo>
                  <a:lnTo>
                    <a:pt x="1676" y="1147"/>
                  </a:lnTo>
                  <a:lnTo>
                    <a:pt x="1752" y="1139"/>
                  </a:lnTo>
                  <a:lnTo>
                    <a:pt x="1828" y="1130"/>
                  </a:lnTo>
                  <a:lnTo>
                    <a:pt x="1904" y="1120"/>
                  </a:lnTo>
                  <a:lnTo>
                    <a:pt x="1978" y="1107"/>
                  </a:lnTo>
                  <a:lnTo>
                    <a:pt x="2051" y="1095"/>
                  </a:lnTo>
                  <a:lnTo>
                    <a:pt x="2124" y="1082"/>
                  </a:lnTo>
                  <a:lnTo>
                    <a:pt x="2196" y="1066"/>
                  </a:lnTo>
                  <a:lnTo>
                    <a:pt x="2266" y="1051"/>
                  </a:lnTo>
                  <a:lnTo>
                    <a:pt x="2336" y="1033"/>
                  </a:lnTo>
                  <a:lnTo>
                    <a:pt x="2404" y="1016"/>
                  </a:lnTo>
                  <a:lnTo>
                    <a:pt x="2471" y="997"/>
                  </a:lnTo>
                  <a:lnTo>
                    <a:pt x="2536" y="977"/>
                  </a:lnTo>
                  <a:lnTo>
                    <a:pt x="2598" y="957"/>
                  </a:lnTo>
                  <a:lnTo>
                    <a:pt x="2660" y="934"/>
                  </a:lnTo>
                  <a:lnTo>
                    <a:pt x="2719" y="913"/>
                  </a:lnTo>
                  <a:lnTo>
                    <a:pt x="2777" y="889"/>
                  </a:lnTo>
                  <a:lnTo>
                    <a:pt x="2831" y="865"/>
                  </a:lnTo>
                  <a:lnTo>
                    <a:pt x="2883" y="840"/>
                  </a:lnTo>
                  <a:lnTo>
                    <a:pt x="2933" y="815"/>
                  </a:lnTo>
                  <a:lnTo>
                    <a:pt x="2982" y="789"/>
                  </a:lnTo>
                  <a:lnTo>
                    <a:pt x="3026" y="762"/>
                  </a:lnTo>
                  <a:lnTo>
                    <a:pt x="3068" y="734"/>
                  </a:lnTo>
                  <a:lnTo>
                    <a:pt x="3106" y="707"/>
                  </a:lnTo>
                  <a:lnTo>
                    <a:pt x="3142" y="678"/>
                  </a:lnTo>
                  <a:lnTo>
                    <a:pt x="3176" y="649"/>
                  </a:lnTo>
                  <a:lnTo>
                    <a:pt x="3206" y="622"/>
                  </a:lnTo>
                  <a:lnTo>
                    <a:pt x="3230" y="593"/>
                  </a:lnTo>
                  <a:lnTo>
                    <a:pt x="3251" y="566"/>
                  </a:lnTo>
                  <a:lnTo>
                    <a:pt x="3268" y="539"/>
                  </a:lnTo>
                  <a:lnTo>
                    <a:pt x="3279" y="510"/>
                  </a:lnTo>
                  <a:lnTo>
                    <a:pt x="3286" y="484"/>
                  </a:lnTo>
                  <a:lnTo>
                    <a:pt x="3289" y="457"/>
                  </a:lnTo>
                  <a:lnTo>
                    <a:pt x="3289" y="429"/>
                  </a:lnTo>
                  <a:lnTo>
                    <a:pt x="3283" y="404"/>
                  </a:lnTo>
                  <a:lnTo>
                    <a:pt x="3274" y="378"/>
                  </a:lnTo>
                  <a:lnTo>
                    <a:pt x="3260" y="354"/>
                  </a:lnTo>
                  <a:lnTo>
                    <a:pt x="3244" y="328"/>
                  </a:lnTo>
                  <a:lnTo>
                    <a:pt x="3221" y="303"/>
                  </a:lnTo>
                  <a:lnTo>
                    <a:pt x="3197" y="281"/>
                  </a:lnTo>
                  <a:lnTo>
                    <a:pt x="3168" y="258"/>
                  </a:lnTo>
                  <a:lnTo>
                    <a:pt x="3135" y="235"/>
                  </a:lnTo>
                  <a:lnTo>
                    <a:pt x="3098" y="214"/>
                  </a:lnTo>
                  <a:lnTo>
                    <a:pt x="3057" y="194"/>
                  </a:lnTo>
                  <a:lnTo>
                    <a:pt x="3013" y="173"/>
                  </a:lnTo>
                  <a:lnTo>
                    <a:pt x="2965" y="155"/>
                  </a:lnTo>
                  <a:lnTo>
                    <a:pt x="2915" y="137"/>
                  </a:lnTo>
                  <a:lnTo>
                    <a:pt x="2860" y="120"/>
                  </a:lnTo>
                  <a:lnTo>
                    <a:pt x="2801" y="103"/>
                  </a:lnTo>
                  <a:lnTo>
                    <a:pt x="2741" y="88"/>
                  </a:lnTo>
                  <a:lnTo>
                    <a:pt x="2675" y="74"/>
                  </a:lnTo>
                  <a:lnTo>
                    <a:pt x="2607" y="61"/>
                  </a:lnTo>
                  <a:lnTo>
                    <a:pt x="2536" y="49"/>
                  </a:lnTo>
                  <a:lnTo>
                    <a:pt x="2462" y="38"/>
                  </a:lnTo>
                  <a:lnTo>
                    <a:pt x="2384" y="29"/>
                  </a:lnTo>
                  <a:lnTo>
                    <a:pt x="2302" y="21"/>
                  </a:lnTo>
                  <a:lnTo>
                    <a:pt x="2219" y="14"/>
                  </a:lnTo>
                  <a:lnTo>
                    <a:pt x="2134" y="8"/>
                  </a:lnTo>
                  <a:lnTo>
                    <a:pt x="2048" y="5"/>
                  </a:lnTo>
                  <a:lnTo>
                    <a:pt x="1963" y="2"/>
                  </a:lnTo>
                  <a:lnTo>
                    <a:pt x="1877" y="0"/>
                  </a:lnTo>
                  <a:lnTo>
                    <a:pt x="1792" y="2"/>
                  </a:lnTo>
                  <a:lnTo>
                    <a:pt x="1707" y="3"/>
                  </a:lnTo>
                  <a:lnTo>
                    <a:pt x="1622" y="6"/>
                  </a:lnTo>
                  <a:lnTo>
                    <a:pt x="1537" y="12"/>
                  </a:lnTo>
                  <a:lnTo>
                    <a:pt x="1454" y="18"/>
                  </a:lnTo>
                  <a:lnTo>
                    <a:pt x="1372" y="26"/>
                  </a:lnTo>
                  <a:lnTo>
                    <a:pt x="1290" y="35"/>
                  </a:lnTo>
                  <a:lnTo>
                    <a:pt x="1210" y="44"/>
                  </a:lnTo>
                  <a:lnTo>
                    <a:pt x="1131" y="56"/>
                  </a:lnTo>
                  <a:lnTo>
                    <a:pt x="1053" y="68"/>
                  </a:lnTo>
                  <a:lnTo>
                    <a:pt x="978" y="84"/>
                  </a:lnTo>
                  <a:lnTo>
                    <a:pt x="903" y="97"/>
                  </a:lnTo>
                  <a:lnTo>
                    <a:pt x="831" y="114"/>
                  </a:lnTo>
                  <a:lnTo>
                    <a:pt x="761" y="132"/>
                  </a:lnTo>
                  <a:lnTo>
                    <a:pt x="693" y="150"/>
                  </a:lnTo>
                  <a:lnTo>
                    <a:pt x="628" y="170"/>
                  </a:lnTo>
                  <a:lnTo>
                    <a:pt x="564" y="190"/>
                  </a:lnTo>
                  <a:lnTo>
                    <a:pt x="503" y="212"/>
                  </a:lnTo>
                  <a:lnTo>
                    <a:pt x="444" y="235"/>
                  </a:lnTo>
                  <a:lnTo>
                    <a:pt x="390" y="258"/>
                  </a:lnTo>
                  <a:lnTo>
                    <a:pt x="337" y="282"/>
                  </a:lnTo>
                  <a:lnTo>
                    <a:pt x="288" y="308"/>
                  </a:lnTo>
                  <a:lnTo>
                    <a:pt x="243" y="334"/>
                  </a:lnTo>
                  <a:lnTo>
                    <a:pt x="200" y="361"/>
                  </a:lnTo>
                  <a:lnTo>
                    <a:pt x="161" y="390"/>
                  </a:lnTo>
                  <a:lnTo>
                    <a:pt x="126" y="419"/>
                  </a:lnTo>
                  <a:lnTo>
                    <a:pt x="94" y="448"/>
                  </a:lnTo>
                  <a:lnTo>
                    <a:pt x="67" y="478"/>
                  </a:lnTo>
                  <a:lnTo>
                    <a:pt x="45" y="508"/>
                  </a:lnTo>
                  <a:lnTo>
                    <a:pt x="29" y="540"/>
                  </a:lnTo>
                  <a:lnTo>
                    <a:pt x="15" y="570"/>
                  </a:lnTo>
                  <a:lnTo>
                    <a:pt x="6" y="601"/>
                  </a:lnTo>
                  <a:lnTo>
                    <a:pt x="2" y="630"/>
                  </a:lnTo>
                  <a:lnTo>
                    <a:pt x="0" y="660"/>
                  </a:lnTo>
                  <a:lnTo>
                    <a:pt x="2" y="689"/>
                  </a:lnTo>
                  <a:lnTo>
                    <a:pt x="8" y="718"/>
                  </a:lnTo>
                  <a:lnTo>
                    <a:pt x="18" y="746"/>
                  </a:lnTo>
                  <a:lnTo>
                    <a:pt x="30" y="774"/>
                  </a:lnTo>
                  <a:lnTo>
                    <a:pt x="47" y="801"/>
                  </a:lnTo>
                  <a:lnTo>
                    <a:pt x="67" y="828"/>
                  </a:lnTo>
                  <a:lnTo>
                    <a:pt x="91" y="854"/>
                  </a:lnTo>
                  <a:lnTo>
                    <a:pt x="117" y="878"/>
                  </a:lnTo>
                  <a:lnTo>
                    <a:pt x="147" y="903"/>
                  </a:lnTo>
                  <a:lnTo>
                    <a:pt x="179" y="927"/>
                  </a:lnTo>
                  <a:lnTo>
                    <a:pt x="215" y="950"/>
                  </a:lnTo>
                  <a:lnTo>
                    <a:pt x="253" y="971"/>
                  </a:lnTo>
                  <a:lnTo>
                    <a:pt x="296" y="992"/>
                  </a:lnTo>
                  <a:lnTo>
                    <a:pt x="340" y="1012"/>
                  </a:lnTo>
                  <a:lnTo>
                    <a:pt x="387" y="1032"/>
                  </a:lnTo>
                  <a:lnTo>
                    <a:pt x="437" y="1050"/>
                  </a:lnTo>
                  <a:lnTo>
                    <a:pt x="490" y="1066"/>
                  </a:lnTo>
                  <a:lnTo>
                    <a:pt x="544" y="1082"/>
                  </a:lnTo>
                  <a:lnTo>
                    <a:pt x="602" y="1097"/>
                  </a:lnTo>
                  <a:lnTo>
                    <a:pt x="662" y="1109"/>
                  </a:lnTo>
                  <a:lnTo>
                    <a:pt x="725" y="1121"/>
                  </a:lnTo>
                  <a:lnTo>
                    <a:pt x="790" y="1132"/>
                  </a:lnTo>
                  <a:lnTo>
                    <a:pt x="856" y="1141"/>
                  </a:lnTo>
                  <a:lnTo>
                    <a:pt x="926" y="1150"/>
                  </a:lnTo>
                  <a:lnTo>
                    <a:pt x="997" y="1156"/>
                  </a:lnTo>
                  <a:lnTo>
                    <a:pt x="1070" y="116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6"/>
            <p:cNvSpPr/>
            <p:nvPr/>
          </p:nvSpPr>
          <p:spPr>
            <a:xfrm>
              <a:off x="1846440" y="3017880"/>
              <a:ext cx="5468760" cy="2247840"/>
            </a:xfrm>
            <a:custGeom>
              <a:avLst/>
              <a:gdLst/>
              <a:ahLst/>
              <a:rect l="l" t="t" r="r" b="b"/>
              <a:pathLst>
                <a:path w="3445" h="1416">
                  <a:moveTo>
                    <a:pt x="965" y="1117"/>
                  </a:moveTo>
                  <a:lnTo>
                    <a:pt x="1039" y="1146"/>
                  </a:lnTo>
                  <a:lnTo>
                    <a:pt x="1115" y="1174"/>
                  </a:lnTo>
                  <a:lnTo>
                    <a:pt x="1191" y="1200"/>
                  </a:lnTo>
                  <a:lnTo>
                    <a:pt x="1267" y="1224"/>
                  </a:lnTo>
                  <a:lnTo>
                    <a:pt x="1344" y="1249"/>
                  </a:lnTo>
                  <a:lnTo>
                    <a:pt x="1421" y="1270"/>
                  </a:lnTo>
                  <a:lnTo>
                    <a:pt x="1500" y="1291"/>
                  </a:lnTo>
                  <a:lnTo>
                    <a:pt x="1578" y="1309"/>
                  </a:lnTo>
                  <a:lnTo>
                    <a:pt x="1655" y="1328"/>
                  </a:lnTo>
                  <a:lnTo>
                    <a:pt x="1734" y="1343"/>
                  </a:lnTo>
                  <a:lnTo>
                    <a:pt x="1811" y="1358"/>
                  </a:lnTo>
                  <a:lnTo>
                    <a:pt x="1888" y="1370"/>
                  </a:lnTo>
                  <a:lnTo>
                    <a:pt x="1964" y="1381"/>
                  </a:lnTo>
                  <a:lnTo>
                    <a:pt x="2040" y="1391"/>
                  </a:lnTo>
                  <a:lnTo>
                    <a:pt x="2116" y="1399"/>
                  </a:lnTo>
                  <a:lnTo>
                    <a:pt x="2191" y="1405"/>
                  </a:lnTo>
                  <a:lnTo>
                    <a:pt x="2264" y="1411"/>
                  </a:lnTo>
                  <a:lnTo>
                    <a:pt x="2337" y="1414"/>
                  </a:lnTo>
                  <a:lnTo>
                    <a:pt x="2408" y="1416"/>
                  </a:lnTo>
                  <a:lnTo>
                    <a:pt x="2478" y="1416"/>
                  </a:lnTo>
                  <a:lnTo>
                    <a:pt x="2548" y="1414"/>
                  </a:lnTo>
                  <a:lnTo>
                    <a:pt x="2614" y="1411"/>
                  </a:lnTo>
                  <a:lnTo>
                    <a:pt x="2680" y="1406"/>
                  </a:lnTo>
                  <a:lnTo>
                    <a:pt x="2743" y="1400"/>
                  </a:lnTo>
                  <a:lnTo>
                    <a:pt x="2805" y="1393"/>
                  </a:lnTo>
                  <a:lnTo>
                    <a:pt x="2866" y="1382"/>
                  </a:lnTo>
                  <a:lnTo>
                    <a:pt x="2924" y="1372"/>
                  </a:lnTo>
                  <a:lnTo>
                    <a:pt x="2978" y="1358"/>
                  </a:lnTo>
                  <a:lnTo>
                    <a:pt x="3031" y="1344"/>
                  </a:lnTo>
                  <a:lnTo>
                    <a:pt x="3083" y="1328"/>
                  </a:lnTo>
                  <a:lnTo>
                    <a:pt x="3130" y="1309"/>
                  </a:lnTo>
                  <a:lnTo>
                    <a:pt x="3175" y="1290"/>
                  </a:lnTo>
                  <a:lnTo>
                    <a:pt x="3219" y="1268"/>
                  </a:lnTo>
                  <a:lnTo>
                    <a:pt x="3260" y="1247"/>
                  </a:lnTo>
                  <a:lnTo>
                    <a:pt x="3295" y="1224"/>
                  </a:lnTo>
                  <a:lnTo>
                    <a:pt x="3328" y="1200"/>
                  </a:lnTo>
                  <a:lnTo>
                    <a:pt x="3356" y="1176"/>
                  </a:lnTo>
                  <a:lnTo>
                    <a:pt x="3380" y="1149"/>
                  </a:lnTo>
                  <a:lnTo>
                    <a:pt x="3401" y="1123"/>
                  </a:lnTo>
                  <a:lnTo>
                    <a:pt x="3418" y="1095"/>
                  </a:lnTo>
                  <a:lnTo>
                    <a:pt x="3430" y="1067"/>
                  </a:lnTo>
                  <a:lnTo>
                    <a:pt x="3439" y="1038"/>
                  </a:lnTo>
                  <a:lnTo>
                    <a:pt x="3443" y="1007"/>
                  </a:lnTo>
                  <a:lnTo>
                    <a:pt x="3445" y="977"/>
                  </a:lnTo>
                  <a:lnTo>
                    <a:pt x="3442" y="947"/>
                  </a:lnTo>
                  <a:lnTo>
                    <a:pt x="3436" y="915"/>
                  </a:lnTo>
                  <a:lnTo>
                    <a:pt x="3425" y="883"/>
                  </a:lnTo>
                  <a:lnTo>
                    <a:pt x="3412" y="851"/>
                  </a:lnTo>
                  <a:lnTo>
                    <a:pt x="3393" y="818"/>
                  </a:lnTo>
                  <a:lnTo>
                    <a:pt x="3371" y="786"/>
                  </a:lnTo>
                  <a:lnTo>
                    <a:pt x="3346" y="753"/>
                  </a:lnTo>
                  <a:lnTo>
                    <a:pt x="3316" y="719"/>
                  </a:lnTo>
                  <a:lnTo>
                    <a:pt x="3283" y="686"/>
                  </a:lnTo>
                  <a:lnTo>
                    <a:pt x="3246" y="653"/>
                  </a:lnTo>
                  <a:lnTo>
                    <a:pt x="3207" y="619"/>
                  </a:lnTo>
                  <a:lnTo>
                    <a:pt x="3163" y="586"/>
                  </a:lnTo>
                  <a:lnTo>
                    <a:pt x="3115" y="554"/>
                  </a:lnTo>
                  <a:lnTo>
                    <a:pt x="3063" y="521"/>
                  </a:lnTo>
                  <a:lnTo>
                    <a:pt x="3008" y="489"/>
                  </a:lnTo>
                  <a:lnTo>
                    <a:pt x="2949" y="455"/>
                  </a:lnTo>
                  <a:lnTo>
                    <a:pt x="2887" y="424"/>
                  </a:lnTo>
                  <a:lnTo>
                    <a:pt x="2820" y="392"/>
                  </a:lnTo>
                  <a:lnTo>
                    <a:pt x="2751" y="361"/>
                  </a:lnTo>
                  <a:lnTo>
                    <a:pt x="2678" y="331"/>
                  </a:lnTo>
                  <a:lnTo>
                    <a:pt x="2596" y="301"/>
                  </a:lnTo>
                  <a:lnTo>
                    <a:pt x="2514" y="272"/>
                  </a:lnTo>
                  <a:lnTo>
                    <a:pt x="2429" y="245"/>
                  </a:lnTo>
                  <a:lnTo>
                    <a:pt x="2345" y="217"/>
                  </a:lnTo>
                  <a:lnTo>
                    <a:pt x="2258" y="193"/>
                  </a:lnTo>
                  <a:lnTo>
                    <a:pt x="2172" y="170"/>
                  </a:lnTo>
                  <a:lnTo>
                    <a:pt x="2084" y="147"/>
                  </a:lnTo>
                  <a:lnTo>
                    <a:pt x="1994" y="128"/>
                  </a:lnTo>
                  <a:lnTo>
                    <a:pt x="1906" y="108"/>
                  </a:lnTo>
                  <a:lnTo>
                    <a:pt x="1817" y="90"/>
                  </a:lnTo>
                  <a:lnTo>
                    <a:pt x="1729" y="75"/>
                  </a:lnTo>
                  <a:lnTo>
                    <a:pt x="1641" y="59"/>
                  </a:lnTo>
                  <a:lnTo>
                    <a:pt x="1553" y="47"/>
                  </a:lnTo>
                  <a:lnTo>
                    <a:pt x="1465" y="35"/>
                  </a:lnTo>
                  <a:lnTo>
                    <a:pt x="1379" y="26"/>
                  </a:lnTo>
                  <a:lnTo>
                    <a:pt x="1293" y="17"/>
                  </a:lnTo>
                  <a:lnTo>
                    <a:pt x="1208" y="11"/>
                  </a:lnTo>
                  <a:lnTo>
                    <a:pt x="1124" y="5"/>
                  </a:lnTo>
                  <a:lnTo>
                    <a:pt x="1042" y="2"/>
                  </a:lnTo>
                  <a:lnTo>
                    <a:pt x="964" y="0"/>
                  </a:lnTo>
                  <a:lnTo>
                    <a:pt x="885" y="0"/>
                  </a:lnTo>
                  <a:lnTo>
                    <a:pt x="808" y="2"/>
                  </a:lnTo>
                  <a:lnTo>
                    <a:pt x="733" y="5"/>
                  </a:lnTo>
                  <a:lnTo>
                    <a:pt x="662" y="9"/>
                  </a:lnTo>
                  <a:lnTo>
                    <a:pt x="592" y="17"/>
                  </a:lnTo>
                  <a:lnTo>
                    <a:pt x="526" y="25"/>
                  </a:lnTo>
                  <a:lnTo>
                    <a:pt x="462" y="35"/>
                  </a:lnTo>
                  <a:lnTo>
                    <a:pt x="401" y="47"/>
                  </a:lnTo>
                  <a:lnTo>
                    <a:pt x="344" y="61"/>
                  </a:lnTo>
                  <a:lnTo>
                    <a:pt x="289" y="78"/>
                  </a:lnTo>
                  <a:lnTo>
                    <a:pt x="239" y="94"/>
                  </a:lnTo>
                  <a:lnTo>
                    <a:pt x="192" y="114"/>
                  </a:lnTo>
                  <a:lnTo>
                    <a:pt x="153" y="135"/>
                  </a:lnTo>
                  <a:lnTo>
                    <a:pt x="116" y="158"/>
                  </a:lnTo>
                  <a:lnTo>
                    <a:pt x="86" y="182"/>
                  </a:lnTo>
                  <a:lnTo>
                    <a:pt x="60" y="207"/>
                  </a:lnTo>
                  <a:lnTo>
                    <a:pt x="39" y="234"/>
                  </a:lnTo>
                  <a:lnTo>
                    <a:pt x="22" y="261"/>
                  </a:lnTo>
                  <a:lnTo>
                    <a:pt x="10" y="289"/>
                  </a:lnTo>
                  <a:lnTo>
                    <a:pt x="3" y="317"/>
                  </a:lnTo>
                  <a:lnTo>
                    <a:pt x="0" y="348"/>
                  </a:lnTo>
                  <a:lnTo>
                    <a:pt x="0" y="378"/>
                  </a:lnTo>
                  <a:lnTo>
                    <a:pt x="6" y="410"/>
                  </a:lnTo>
                  <a:lnTo>
                    <a:pt x="15" y="442"/>
                  </a:lnTo>
                  <a:lnTo>
                    <a:pt x="28" y="475"/>
                  </a:lnTo>
                  <a:lnTo>
                    <a:pt x="45" y="508"/>
                  </a:lnTo>
                  <a:lnTo>
                    <a:pt x="66" y="542"/>
                  </a:lnTo>
                  <a:lnTo>
                    <a:pt x="92" y="575"/>
                  </a:lnTo>
                  <a:lnTo>
                    <a:pt x="121" y="610"/>
                  </a:lnTo>
                  <a:lnTo>
                    <a:pt x="153" y="645"/>
                  </a:lnTo>
                  <a:lnTo>
                    <a:pt x="189" y="678"/>
                  </a:lnTo>
                  <a:lnTo>
                    <a:pt x="230" y="713"/>
                  </a:lnTo>
                  <a:lnTo>
                    <a:pt x="272" y="748"/>
                  </a:lnTo>
                  <a:lnTo>
                    <a:pt x="319" y="783"/>
                  </a:lnTo>
                  <a:lnTo>
                    <a:pt x="369" y="818"/>
                  </a:lnTo>
                  <a:lnTo>
                    <a:pt x="424" y="853"/>
                  </a:lnTo>
                  <a:lnTo>
                    <a:pt x="480" y="888"/>
                  </a:lnTo>
                  <a:lnTo>
                    <a:pt x="541" y="921"/>
                  </a:lnTo>
                  <a:lnTo>
                    <a:pt x="604" y="956"/>
                  </a:lnTo>
                  <a:lnTo>
                    <a:pt x="671" y="989"/>
                  </a:lnTo>
                  <a:lnTo>
                    <a:pt x="739" y="1021"/>
                  </a:lnTo>
                  <a:lnTo>
                    <a:pt x="812" y="1055"/>
                  </a:lnTo>
                  <a:lnTo>
                    <a:pt x="888" y="1086"/>
                  </a:lnTo>
                  <a:lnTo>
                    <a:pt x="965" y="1117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7"/>
            <p:cNvSpPr/>
            <p:nvPr/>
          </p:nvSpPr>
          <p:spPr>
            <a:xfrm>
              <a:off x="2216160" y="3376440"/>
              <a:ext cx="909720" cy="901800"/>
            </a:xfrm>
            <a:custGeom>
              <a:avLst/>
              <a:gdLst/>
              <a:ahLst/>
              <a:rect l="l" t="t" r="r" b="b"/>
              <a:pathLst>
                <a:path w="573" h="568">
                  <a:moveTo>
                    <a:pt x="444" y="568"/>
                  </a:moveTo>
                  <a:lnTo>
                    <a:pt x="437" y="568"/>
                  </a:lnTo>
                  <a:lnTo>
                    <a:pt x="429" y="566"/>
                  </a:lnTo>
                  <a:lnTo>
                    <a:pt x="423" y="565"/>
                  </a:lnTo>
                  <a:lnTo>
                    <a:pt x="415" y="562"/>
                  </a:lnTo>
                  <a:lnTo>
                    <a:pt x="411" y="559"/>
                  </a:lnTo>
                  <a:lnTo>
                    <a:pt x="405" y="554"/>
                  </a:lnTo>
                  <a:lnTo>
                    <a:pt x="400" y="549"/>
                  </a:lnTo>
                  <a:lnTo>
                    <a:pt x="396" y="543"/>
                  </a:lnTo>
                  <a:lnTo>
                    <a:pt x="390" y="534"/>
                  </a:lnTo>
                  <a:lnTo>
                    <a:pt x="387" y="527"/>
                  </a:lnTo>
                  <a:lnTo>
                    <a:pt x="379" y="515"/>
                  </a:lnTo>
                  <a:lnTo>
                    <a:pt x="367" y="496"/>
                  </a:lnTo>
                  <a:lnTo>
                    <a:pt x="362" y="493"/>
                  </a:lnTo>
                  <a:lnTo>
                    <a:pt x="356" y="492"/>
                  </a:lnTo>
                  <a:lnTo>
                    <a:pt x="346" y="490"/>
                  </a:lnTo>
                  <a:lnTo>
                    <a:pt x="332" y="487"/>
                  </a:lnTo>
                  <a:lnTo>
                    <a:pt x="317" y="484"/>
                  </a:lnTo>
                  <a:lnTo>
                    <a:pt x="299" y="481"/>
                  </a:lnTo>
                  <a:lnTo>
                    <a:pt x="277" y="477"/>
                  </a:lnTo>
                  <a:lnTo>
                    <a:pt x="256" y="471"/>
                  </a:lnTo>
                  <a:lnTo>
                    <a:pt x="240" y="464"/>
                  </a:lnTo>
                  <a:lnTo>
                    <a:pt x="221" y="460"/>
                  </a:lnTo>
                  <a:lnTo>
                    <a:pt x="203" y="452"/>
                  </a:lnTo>
                  <a:lnTo>
                    <a:pt x="185" y="446"/>
                  </a:lnTo>
                  <a:lnTo>
                    <a:pt x="168" y="439"/>
                  </a:lnTo>
                  <a:lnTo>
                    <a:pt x="153" y="431"/>
                  </a:lnTo>
                  <a:lnTo>
                    <a:pt x="141" y="424"/>
                  </a:lnTo>
                  <a:lnTo>
                    <a:pt x="132" y="414"/>
                  </a:lnTo>
                  <a:lnTo>
                    <a:pt x="129" y="408"/>
                  </a:lnTo>
                  <a:lnTo>
                    <a:pt x="130" y="401"/>
                  </a:lnTo>
                  <a:lnTo>
                    <a:pt x="133" y="395"/>
                  </a:lnTo>
                  <a:lnTo>
                    <a:pt x="139" y="387"/>
                  </a:lnTo>
                  <a:lnTo>
                    <a:pt x="146" y="381"/>
                  </a:lnTo>
                  <a:lnTo>
                    <a:pt x="153" y="376"/>
                  </a:lnTo>
                  <a:lnTo>
                    <a:pt x="159" y="373"/>
                  </a:lnTo>
                  <a:lnTo>
                    <a:pt x="165" y="372"/>
                  </a:lnTo>
                  <a:lnTo>
                    <a:pt x="180" y="373"/>
                  </a:lnTo>
                  <a:lnTo>
                    <a:pt x="199" y="376"/>
                  </a:lnTo>
                  <a:lnTo>
                    <a:pt x="220" y="383"/>
                  </a:lnTo>
                  <a:lnTo>
                    <a:pt x="244" y="390"/>
                  </a:lnTo>
                  <a:lnTo>
                    <a:pt x="271" y="396"/>
                  </a:lnTo>
                  <a:lnTo>
                    <a:pt x="302" y="402"/>
                  </a:lnTo>
                  <a:lnTo>
                    <a:pt x="332" y="404"/>
                  </a:lnTo>
                  <a:lnTo>
                    <a:pt x="364" y="404"/>
                  </a:lnTo>
                  <a:lnTo>
                    <a:pt x="379" y="402"/>
                  </a:lnTo>
                  <a:lnTo>
                    <a:pt x="388" y="398"/>
                  </a:lnTo>
                  <a:lnTo>
                    <a:pt x="393" y="390"/>
                  </a:lnTo>
                  <a:lnTo>
                    <a:pt x="390" y="380"/>
                  </a:lnTo>
                  <a:lnTo>
                    <a:pt x="382" y="372"/>
                  </a:lnTo>
                  <a:lnTo>
                    <a:pt x="368" y="366"/>
                  </a:lnTo>
                  <a:lnTo>
                    <a:pt x="352" y="358"/>
                  </a:lnTo>
                  <a:lnTo>
                    <a:pt x="330" y="351"/>
                  </a:lnTo>
                  <a:lnTo>
                    <a:pt x="306" y="345"/>
                  </a:lnTo>
                  <a:lnTo>
                    <a:pt x="279" y="337"/>
                  </a:lnTo>
                  <a:lnTo>
                    <a:pt x="250" y="329"/>
                  </a:lnTo>
                  <a:lnTo>
                    <a:pt x="221" y="320"/>
                  </a:lnTo>
                  <a:lnTo>
                    <a:pt x="191" y="311"/>
                  </a:lnTo>
                  <a:lnTo>
                    <a:pt x="161" y="301"/>
                  </a:lnTo>
                  <a:lnTo>
                    <a:pt x="132" y="290"/>
                  </a:lnTo>
                  <a:lnTo>
                    <a:pt x="105" y="278"/>
                  </a:lnTo>
                  <a:lnTo>
                    <a:pt x="79" y="264"/>
                  </a:lnTo>
                  <a:lnTo>
                    <a:pt x="55" y="251"/>
                  </a:lnTo>
                  <a:lnTo>
                    <a:pt x="35" y="234"/>
                  </a:lnTo>
                  <a:lnTo>
                    <a:pt x="20" y="216"/>
                  </a:lnTo>
                  <a:lnTo>
                    <a:pt x="3" y="182"/>
                  </a:lnTo>
                  <a:lnTo>
                    <a:pt x="0" y="154"/>
                  </a:lnTo>
                  <a:lnTo>
                    <a:pt x="8" y="131"/>
                  </a:lnTo>
                  <a:lnTo>
                    <a:pt x="23" y="111"/>
                  </a:lnTo>
                  <a:lnTo>
                    <a:pt x="32" y="103"/>
                  </a:lnTo>
                  <a:lnTo>
                    <a:pt x="41" y="96"/>
                  </a:lnTo>
                  <a:lnTo>
                    <a:pt x="50" y="90"/>
                  </a:lnTo>
                  <a:lnTo>
                    <a:pt x="58" y="84"/>
                  </a:lnTo>
                  <a:lnTo>
                    <a:pt x="64" y="79"/>
                  </a:lnTo>
                  <a:lnTo>
                    <a:pt x="70" y="75"/>
                  </a:lnTo>
                  <a:lnTo>
                    <a:pt x="71" y="72"/>
                  </a:lnTo>
                  <a:lnTo>
                    <a:pt x="71" y="69"/>
                  </a:lnTo>
                  <a:lnTo>
                    <a:pt x="39" y="25"/>
                  </a:lnTo>
                  <a:lnTo>
                    <a:pt x="33" y="14"/>
                  </a:lnTo>
                  <a:lnTo>
                    <a:pt x="33" y="6"/>
                  </a:lnTo>
                  <a:lnTo>
                    <a:pt x="41" y="2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7" y="3"/>
                  </a:lnTo>
                  <a:lnTo>
                    <a:pt x="108" y="5"/>
                  </a:lnTo>
                  <a:lnTo>
                    <a:pt x="118" y="5"/>
                  </a:lnTo>
                  <a:lnTo>
                    <a:pt x="129" y="5"/>
                  </a:lnTo>
                  <a:lnTo>
                    <a:pt x="136" y="5"/>
                  </a:lnTo>
                  <a:lnTo>
                    <a:pt x="144" y="6"/>
                  </a:lnTo>
                  <a:lnTo>
                    <a:pt x="149" y="8"/>
                  </a:lnTo>
                  <a:lnTo>
                    <a:pt x="153" y="9"/>
                  </a:lnTo>
                  <a:lnTo>
                    <a:pt x="158" y="12"/>
                  </a:lnTo>
                  <a:lnTo>
                    <a:pt x="161" y="15"/>
                  </a:lnTo>
                  <a:lnTo>
                    <a:pt x="164" y="19"/>
                  </a:lnTo>
                  <a:lnTo>
                    <a:pt x="173" y="32"/>
                  </a:lnTo>
                  <a:lnTo>
                    <a:pt x="182" y="44"/>
                  </a:lnTo>
                  <a:lnTo>
                    <a:pt x="190" y="58"/>
                  </a:lnTo>
                  <a:lnTo>
                    <a:pt x="199" y="72"/>
                  </a:lnTo>
                  <a:lnTo>
                    <a:pt x="205" y="78"/>
                  </a:lnTo>
                  <a:lnTo>
                    <a:pt x="211" y="81"/>
                  </a:lnTo>
                  <a:lnTo>
                    <a:pt x="220" y="82"/>
                  </a:lnTo>
                  <a:lnTo>
                    <a:pt x="232" y="84"/>
                  </a:lnTo>
                  <a:lnTo>
                    <a:pt x="247" y="87"/>
                  </a:lnTo>
                  <a:lnTo>
                    <a:pt x="265" y="90"/>
                  </a:lnTo>
                  <a:lnTo>
                    <a:pt x="288" y="96"/>
                  </a:lnTo>
                  <a:lnTo>
                    <a:pt x="317" y="105"/>
                  </a:lnTo>
                  <a:lnTo>
                    <a:pt x="335" y="113"/>
                  </a:lnTo>
                  <a:lnTo>
                    <a:pt x="353" y="122"/>
                  </a:lnTo>
                  <a:lnTo>
                    <a:pt x="371" y="131"/>
                  </a:lnTo>
                  <a:lnTo>
                    <a:pt x="388" y="141"/>
                  </a:lnTo>
                  <a:lnTo>
                    <a:pt x="402" y="150"/>
                  </a:lnTo>
                  <a:lnTo>
                    <a:pt x="414" y="161"/>
                  </a:lnTo>
                  <a:lnTo>
                    <a:pt x="421" y="169"/>
                  </a:lnTo>
                  <a:lnTo>
                    <a:pt x="427" y="175"/>
                  </a:lnTo>
                  <a:lnTo>
                    <a:pt x="432" y="182"/>
                  </a:lnTo>
                  <a:lnTo>
                    <a:pt x="431" y="187"/>
                  </a:lnTo>
                  <a:lnTo>
                    <a:pt x="423" y="190"/>
                  </a:lnTo>
                  <a:lnTo>
                    <a:pt x="414" y="193"/>
                  </a:lnTo>
                  <a:lnTo>
                    <a:pt x="403" y="196"/>
                  </a:lnTo>
                  <a:lnTo>
                    <a:pt x="393" y="198"/>
                  </a:lnTo>
                  <a:lnTo>
                    <a:pt x="382" y="201"/>
                  </a:lnTo>
                  <a:lnTo>
                    <a:pt x="373" y="202"/>
                  </a:lnTo>
                  <a:lnTo>
                    <a:pt x="362" y="204"/>
                  </a:lnTo>
                  <a:lnTo>
                    <a:pt x="352" y="205"/>
                  </a:lnTo>
                  <a:lnTo>
                    <a:pt x="341" y="207"/>
                  </a:lnTo>
                  <a:lnTo>
                    <a:pt x="332" y="207"/>
                  </a:lnTo>
                  <a:lnTo>
                    <a:pt x="321" y="207"/>
                  </a:lnTo>
                  <a:lnTo>
                    <a:pt x="311" y="205"/>
                  </a:lnTo>
                  <a:lnTo>
                    <a:pt x="303" y="204"/>
                  </a:lnTo>
                  <a:lnTo>
                    <a:pt x="296" y="201"/>
                  </a:lnTo>
                  <a:lnTo>
                    <a:pt x="287" y="198"/>
                  </a:lnTo>
                  <a:lnTo>
                    <a:pt x="279" y="193"/>
                  </a:lnTo>
                  <a:lnTo>
                    <a:pt x="271" y="188"/>
                  </a:lnTo>
                  <a:lnTo>
                    <a:pt x="262" y="182"/>
                  </a:lnTo>
                  <a:lnTo>
                    <a:pt x="252" y="175"/>
                  </a:lnTo>
                  <a:lnTo>
                    <a:pt x="243" y="170"/>
                  </a:lnTo>
                  <a:lnTo>
                    <a:pt x="235" y="166"/>
                  </a:lnTo>
                  <a:lnTo>
                    <a:pt x="227" y="161"/>
                  </a:lnTo>
                  <a:lnTo>
                    <a:pt x="221" y="160"/>
                  </a:lnTo>
                  <a:lnTo>
                    <a:pt x="215" y="157"/>
                  </a:lnTo>
                  <a:lnTo>
                    <a:pt x="209" y="157"/>
                  </a:lnTo>
                  <a:lnTo>
                    <a:pt x="203" y="157"/>
                  </a:lnTo>
                  <a:lnTo>
                    <a:pt x="194" y="158"/>
                  </a:lnTo>
                  <a:lnTo>
                    <a:pt x="185" y="161"/>
                  </a:lnTo>
                  <a:lnTo>
                    <a:pt x="177" y="167"/>
                  </a:lnTo>
                  <a:lnTo>
                    <a:pt x="171" y="173"/>
                  </a:lnTo>
                  <a:lnTo>
                    <a:pt x="168" y="179"/>
                  </a:lnTo>
                  <a:lnTo>
                    <a:pt x="168" y="185"/>
                  </a:lnTo>
                  <a:lnTo>
                    <a:pt x="171" y="194"/>
                  </a:lnTo>
                  <a:lnTo>
                    <a:pt x="179" y="207"/>
                  </a:lnTo>
                  <a:lnTo>
                    <a:pt x="188" y="214"/>
                  </a:lnTo>
                  <a:lnTo>
                    <a:pt x="202" y="222"/>
                  </a:lnTo>
                  <a:lnTo>
                    <a:pt x="220" y="229"/>
                  </a:lnTo>
                  <a:lnTo>
                    <a:pt x="241" y="237"/>
                  </a:lnTo>
                  <a:lnTo>
                    <a:pt x="267" y="245"/>
                  </a:lnTo>
                  <a:lnTo>
                    <a:pt x="294" y="252"/>
                  </a:lnTo>
                  <a:lnTo>
                    <a:pt x="323" y="260"/>
                  </a:lnTo>
                  <a:lnTo>
                    <a:pt x="353" y="267"/>
                  </a:lnTo>
                  <a:lnTo>
                    <a:pt x="385" y="278"/>
                  </a:lnTo>
                  <a:lnTo>
                    <a:pt x="415" y="287"/>
                  </a:lnTo>
                  <a:lnTo>
                    <a:pt x="446" y="299"/>
                  </a:lnTo>
                  <a:lnTo>
                    <a:pt x="474" y="311"/>
                  </a:lnTo>
                  <a:lnTo>
                    <a:pt x="502" y="325"/>
                  </a:lnTo>
                  <a:lnTo>
                    <a:pt x="525" y="342"/>
                  </a:lnTo>
                  <a:lnTo>
                    <a:pt x="546" y="358"/>
                  </a:lnTo>
                  <a:lnTo>
                    <a:pt x="562" y="378"/>
                  </a:lnTo>
                  <a:lnTo>
                    <a:pt x="573" y="402"/>
                  </a:lnTo>
                  <a:lnTo>
                    <a:pt x="571" y="425"/>
                  </a:lnTo>
                  <a:lnTo>
                    <a:pt x="562" y="445"/>
                  </a:lnTo>
                  <a:lnTo>
                    <a:pt x="544" y="461"/>
                  </a:lnTo>
                  <a:lnTo>
                    <a:pt x="531" y="471"/>
                  </a:lnTo>
                  <a:lnTo>
                    <a:pt x="518" y="477"/>
                  </a:lnTo>
                  <a:lnTo>
                    <a:pt x="508" y="481"/>
                  </a:lnTo>
                  <a:lnTo>
                    <a:pt x="500" y="486"/>
                  </a:lnTo>
                  <a:lnTo>
                    <a:pt x="494" y="489"/>
                  </a:lnTo>
                  <a:lnTo>
                    <a:pt x="491" y="492"/>
                  </a:lnTo>
                  <a:lnTo>
                    <a:pt x="490" y="495"/>
                  </a:lnTo>
                  <a:lnTo>
                    <a:pt x="491" y="499"/>
                  </a:lnTo>
                  <a:lnTo>
                    <a:pt x="499" y="510"/>
                  </a:lnTo>
                  <a:lnTo>
                    <a:pt x="508" y="519"/>
                  </a:lnTo>
                  <a:lnTo>
                    <a:pt x="515" y="530"/>
                  </a:lnTo>
                  <a:lnTo>
                    <a:pt x="523" y="539"/>
                  </a:lnTo>
                  <a:lnTo>
                    <a:pt x="529" y="549"/>
                  </a:lnTo>
                  <a:lnTo>
                    <a:pt x="529" y="555"/>
                  </a:lnTo>
                  <a:lnTo>
                    <a:pt x="521" y="560"/>
                  </a:lnTo>
                  <a:lnTo>
                    <a:pt x="511" y="563"/>
                  </a:lnTo>
                  <a:lnTo>
                    <a:pt x="444" y="568"/>
                  </a:lnTo>
                  <a:close/>
                </a:path>
              </a:pathLst>
            </a:custGeom>
            <a:solidFill>
              <a:srgbClr val="a5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8"/>
            <p:cNvSpPr/>
            <p:nvPr/>
          </p:nvSpPr>
          <p:spPr>
            <a:xfrm>
              <a:off x="6023160" y="4209840"/>
              <a:ext cx="974520" cy="828720"/>
            </a:xfrm>
            <a:custGeom>
              <a:avLst/>
              <a:gdLst/>
              <a:ahLst/>
              <a:rect l="l" t="t" r="r" b="b"/>
              <a:pathLst>
                <a:path w="614" h="522">
                  <a:moveTo>
                    <a:pt x="86" y="517"/>
                  </a:moveTo>
                  <a:lnTo>
                    <a:pt x="73" y="514"/>
                  </a:lnTo>
                  <a:lnTo>
                    <a:pt x="68" y="508"/>
                  </a:lnTo>
                  <a:lnTo>
                    <a:pt x="68" y="499"/>
                  </a:lnTo>
                  <a:lnTo>
                    <a:pt x="73" y="490"/>
                  </a:lnTo>
                  <a:lnTo>
                    <a:pt x="80" y="481"/>
                  </a:lnTo>
                  <a:lnTo>
                    <a:pt x="88" y="475"/>
                  </a:lnTo>
                  <a:lnTo>
                    <a:pt x="97" y="464"/>
                  </a:lnTo>
                  <a:lnTo>
                    <a:pt x="111" y="446"/>
                  </a:lnTo>
                  <a:lnTo>
                    <a:pt x="111" y="443"/>
                  </a:lnTo>
                  <a:lnTo>
                    <a:pt x="108" y="440"/>
                  </a:lnTo>
                  <a:lnTo>
                    <a:pt x="100" y="437"/>
                  </a:lnTo>
                  <a:lnTo>
                    <a:pt x="91" y="434"/>
                  </a:lnTo>
                  <a:lnTo>
                    <a:pt x="80" y="431"/>
                  </a:lnTo>
                  <a:lnTo>
                    <a:pt x="67" y="425"/>
                  </a:lnTo>
                  <a:lnTo>
                    <a:pt x="55" y="419"/>
                  </a:lnTo>
                  <a:lnTo>
                    <a:pt x="42" y="411"/>
                  </a:lnTo>
                  <a:lnTo>
                    <a:pt x="33" y="405"/>
                  </a:lnTo>
                  <a:lnTo>
                    <a:pt x="26" y="398"/>
                  </a:lnTo>
                  <a:lnTo>
                    <a:pt x="17" y="390"/>
                  </a:lnTo>
                  <a:lnTo>
                    <a:pt x="9" y="381"/>
                  </a:lnTo>
                  <a:lnTo>
                    <a:pt x="3" y="373"/>
                  </a:lnTo>
                  <a:lnTo>
                    <a:pt x="0" y="364"/>
                  </a:lnTo>
                  <a:lnTo>
                    <a:pt x="0" y="357"/>
                  </a:lnTo>
                  <a:lnTo>
                    <a:pt x="3" y="347"/>
                  </a:lnTo>
                  <a:lnTo>
                    <a:pt x="9" y="341"/>
                  </a:lnTo>
                  <a:lnTo>
                    <a:pt x="20" y="337"/>
                  </a:lnTo>
                  <a:lnTo>
                    <a:pt x="32" y="331"/>
                  </a:lnTo>
                  <a:lnTo>
                    <a:pt x="47" y="326"/>
                  </a:lnTo>
                  <a:lnTo>
                    <a:pt x="61" y="322"/>
                  </a:lnTo>
                  <a:lnTo>
                    <a:pt x="73" y="319"/>
                  </a:lnTo>
                  <a:lnTo>
                    <a:pt x="83" y="317"/>
                  </a:lnTo>
                  <a:lnTo>
                    <a:pt x="91" y="317"/>
                  </a:lnTo>
                  <a:lnTo>
                    <a:pt x="103" y="320"/>
                  </a:lnTo>
                  <a:lnTo>
                    <a:pt x="115" y="325"/>
                  </a:lnTo>
                  <a:lnTo>
                    <a:pt x="127" y="332"/>
                  </a:lnTo>
                  <a:lnTo>
                    <a:pt x="141" y="341"/>
                  </a:lnTo>
                  <a:lnTo>
                    <a:pt x="158" y="351"/>
                  </a:lnTo>
                  <a:lnTo>
                    <a:pt x="177" y="360"/>
                  </a:lnTo>
                  <a:lnTo>
                    <a:pt x="202" y="366"/>
                  </a:lnTo>
                  <a:lnTo>
                    <a:pt x="232" y="370"/>
                  </a:lnTo>
                  <a:lnTo>
                    <a:pt x="241" y="370"/>
                  </a:lnTo>
                  <a:lnTo>
                    <a:pt x="249" y="370"/>
                  </a:lnTo>
                  <a:lnTo>
                    <a:pt x="256" y="369"/>
                  </a:lnTo>
                  <a:lnTo>
                    <a:pt x="265" y="367"/>
                  </a:lnTo>
                  <a:lnTo>
                    <a:pt x="271" y="364"/>
                  </a:lnTo>
                  <a:lnTo>
                    <a:pt x="277" y="361"/>
                  </a:lnTo>
                  <a:lnTo>
                    <a:pt x="283" y="357"/>
                  </a:lnTo>
                  <a:lnTo>
                    <a:pt x="288" y="352"/>
                  </a:lnTo>
                  <a:lnTo>
                    <a:pt x="288" y="337"/>
                  </a:lnTo>
                  <a:lnTo>
                    <a:pt x="271" y="322"/>
                  </a:lnTo>
                  <a:lnTo>
                    <a:pt x="244" y="304"/>
                  </a:lnTo>
                  <a:lnTo>
                    <a:pt x="212" y="282"/>
                  </a:lnTo>
                  <a:lnTo>
                    <a:pt x="183" y="258"/>
                  </a:lnTo>
                  <a:lnTo>
                    <a:pt x="162" y="232"/>
                  </a:lnTo>
                  <a:lnTo>
                    <a:pt x="155" y="203"/>
                  </a:lnTo>
                  <a:lnTo>
                    <a:pt x="168" y="170"/>
                  </a:lnTo>
                  <a:lnTo>
                    <a:pt x="182" y="155"/>
                  </a:lnTo>
                  <a:lnTo>
                    <a:pt x="199" y="141"/>
                  </a:lnTo>
                  <a:lnTo>
                    <a:pt x="215" y="128"/>
                  </a:lnTo>
                  <a:lnTo>
                    <a:pt x="235" y="117"/>
                  </a:lnTo>
                  <a:lnTo>
                    <a:pt x="255" y="108"/>
                  </a:lnTo>
                  <a:lnTo>
                    <a:pt x="274" y="99"/>
                  </a:lnTo>
                  <a:lnTo>
                    <a:pt x="296" y="91"/>
                  </a:lnTo>
                  <a:lnTo>
                    <a:pt x="315" y="85"/>
                  </a:lnTo>
                  <a:lnTo>
                    <a:pt x="335" y="79"/>
                  </a:lnTo>
                  <a:lnTo>
                    <a:pt x="355" y="74"/>
                  </a:lnTo>
                  <a:lnTo>
                    <a:pt x="371" y="71"/>
                  </a:lnTo>
                  <a:lnTo>
                    <a:pt x="387" y="67"/>
                  </a:lnTo>
                  <a:lnTo>
                    <a:pt x="399" y="64"/>
                  </a:lnTo>
                  <a:lnTo>
                    <a:pt x="409" y="61"/>
                  </a:lnTo>
                  <a:lnTo>
                    <a:pt x="417" y="59"/>
                  </a:lnTo>
                  <a:lnTo>
                    <a:pt x="420" y="56"/>
                  </a:lnTo>
                  <a:lnTo>
                    <a:pt x="452" y="17"/>
                  </a:lnTo>
                  <a:lnTo>
                    <a:pt x="456" y="12"/>
                  </a:lnTo>
                  <a:lnTo>
                    <a:pt x="461" y="8"/>
                  </a:lnTo>
                  <a:lnTo>
                    <a:pt x="465" y="5"/>
                  </a:lnTo>
                  <a:lnTo>
                    <a:pt x="470" y="3"/>
                  </a:lnTo>
                  <a:lnTo>
                    <a:pt x="476" y="2"/>
                  </a:lnTo>
                  <a:lnTo>
                    <a:pt x="484" y="0"/>
                  </a:lnTo>
                  <a:lnTo>
                    <a:pt x="493" y="0"/>
                  </a:lnTo>
                  <a:lnTo>
                    <a:pt x="502" y="0"/>
                  </a:lnTo>
                  <a:lnTo>
                    <a:pt x="508" y="2"/>
                  </a:lnTo>
                  <a:lnTo>
                    <a:pt x="512" y="2"/>
                  </a:lnTo>
                  <a:lnTo>
                    <a:pt x="517" y="3"/>
                  </a:lnTo>
                  <a:lnTo>
                    <a:pt x="523" y="5"/>
                  </a:lnTo>
                  <a:lnTo>
                    <a:pt x="529" y="6"/>
                  </a:lnTo>
                  <a:lnTo>
                    <a:pt x="535" y="9"/>
                  </a:lnTo>
                  <a:lnTo>
                    <a:pt x="543" y="11"/>
                  </a:lnTo>
                  <a:lnTo>
                    <a:pt x="553" y="12"/>
                  </a:lnTo>
                  <a:lnTo>
                    <a:pt x="568" y="15"/>
                  </a:lnTo>
                  <a:lnTo>
                    <a:pt x="578" y="18"/>
                  </a:lnTo>
                  <a:lnTo>
                    <a:pt x="579" y="21"/>
                  </a:lnTo>
                  <a:lnTo>
                    <a:pt x="576" y="27"/>
                  </a:lnTo>
                  <a:lnTo>
                    <a:pt x="567" y="40"/>
                  </a:lnTo>
                  <a:lnTo>
                    <a:pt x="556" y="52"/>
                  </a:lnTo>
                  <a:lnTo>
                    <a:pt x="546" y="62"/>
                  </a:lnTo>
                  <a:lnTo>
                    <a:pt x="535" y="76"/>
                  </a:lnTo>
                  <a:lnTo>
                    <a:pt x="532" y="81"/>
                  </a:lnTo>
                  <a:lnTo>
                    <a:pt x="534" y="85"/>
                  </a:lnTo>
                  <a:lnTo>
                    <a:pt x="538" y="88"/>
                  </a:lnTo>
                  <a:lnTo>
                    <a:pt x="547" y="90"/>
                  </a:lnTo>
                  <a:lnTo>
                    <a:pt x="558" y="94"/>
                  </a:lnTo>
                  <a:lnTo>
                    <a:pt x="570" y="99"/>
                  </a:lnTo>
                  <a:lnTo>
                    <a:pt x="584" y="106"/>
                  </a:lnTo>
                  <a:lnTo>
                    <a:pt x="597" y="117"/>
                  </a:lnTo>
                  <a:lnTo>
                    <a:pt x="611" y="135"/>
                  </a:lnTo>
                  <a:lnTo>
                    <a:pt x="614" y="155"/>
                  </a:lnTo>
                  <a:lnTo>
                    <a:pt x="611" y="175"/>
                  </a:lnTo>
                  <a:lnTo>
                    <a:pt x="605" y="188"/>
                  </a:lnTo>
                  <a:lnTo>
                    <a:pt x="599" y="194"/>
                  </a:lnTo>
                  <a:lnTo>
                    <a:pt x="591" y="197"/>
                  </a:lnTo>
                  <a:lnTo>
                    <a:pt x="581" y="199"/>
                  </a:lnTo>
                  <a:lnTo>
                    <a:pt x="567" y="200"/>
                  </a:lnTo>
                  <a:lnTo>
                    <a:pt x="553" y="202"/>
                  </a:lnTo>
                  <a:lnTo>
                    <a:pt x="541" y="202"/>
                  </a:lnTo>
                  <a:lnTo>
                    <a:pt x="529" y="202"/>
                  </a:lnTo>
                  <a:lnTo>
                    <a:pt x="517" y="203"/>
                  </a:lnTo>
                  <a:lnTo>
                    <a:pt x="505" y="203"/>
                  </a:lnTo>
                  <a:lnTo>
                    <a:pt x="493" y="203"/>
                  </a:lnTo>
                  <a:lnTo>
                    <a:pt x="482" y="202"/>
                  </a:lnTo>
                  <a:lnTo>
                    <a:pt x="471" y="202"/>
                  </a:lnTo>
                  <a:lnTo>
                    <a:pt x="453" y="199"/>
                  </a:lnTo>
                  <a:lnTo>
                    <a:pt x="446" y="193"/>
                  </a:lnTo>
                  <a:lnTo>
                    <a:pt x="443" y="184"/>
                  </a:lnTo>
                  <a:lnTo>
                    <a:pt x="441" y="173"/>
                  </a:lnTo>
                  <a:lnTo>
                    <a:pt x="441" y="161"/>
                  </a:lnTo>
                  <a:lnTo>
                    <a:pt x="438" y="152"/>
                  </a:lnTo>
                  <a:lnTo>
                    <a:pt x="432" y="147"/>
                  </a:lnTo>
                  <a:lnTo>
                    <a:pt x="421" y="144"/>
                  </a:lnTo>
                  <a:lnTo>
                    <a:pt x="417" y="144"/>
                  </a:lnTo>
                  <a:lnTo>
                    <a:pt x="411" y="144"/>
                  </a:lnTo>
                  <a:lnTo>
                    <a:pt x="405" y="146"/>
                  </a:lnTo>
                  <a:lnTo>
                    <a:pt x="397" y="147"/>
                  </a:lnTo>
                  <a:lnTo>
                    <a:pt x="391" y="149"/>
                  </a:lnTo>
                  <a:lnTo>
                    <a:pt x="384" y="150"/>
                  </a:lnTo>
                  <a:lnTo>
                    <a:pt x="376" y="152"/>
                  </a:lnTo>
                  <a:lnTo>
                    <a:pt x="368" y="155"/>
                  </a:lnTo>
                  <a:lnTo>
                    <a:pt x="358" y="159"/>
                  </a:lnTo>
                  <a:lnTo>
                    <a:pt x="349" y="164"/>
                  </a:lnTo>
                  <a:lnTo>
                    <a:pt x="340" y="172"/>
                  </a:lnTo>
                  <a:lnTo>
                    <a:pt x="330" y="182"/>
                  </a:lnTo>
                  <a:lnTo>
                    <a:pt x="330" y="197"/>
                  </a:lnTo>
                  <a:lnTo>
                    <a:pt x="347" y="216"/>
                  </a:lnTo>
                  <a:lnTo>
                    <a:pt x="376" y="234"/>
                  </a:lnTo>
                  <a:lnTo>
                    <a:pt x="408" y="255"/>
                  </a:lnTo>
                  <a:lnTo>
                    <a:pt x="440" y="279"/>
                  </a:lnTo>
                  <a:lnTo>
                    <a:pt x="461" y="307"/>
                  </a:lnTo>
                  <a:lnTo>
                    <a:pt x="467" y="337"/>
                  </a:lnTo>
                  <a:lnTo>
                    <a:pt x="452" y="372"/>
                  </a:lnTo>
                  <a:lnTo>
                    <a:pt x="441" y="384"/>
                  </a:lnTo>
                  <a:lnTo>
                    <a:pt x="427" y="395"/>
                  </a:lnTo>
                  <a:lnTo>
                    <a:pt x="412" y="404"/>
                  </a:lnTo>
                  <a:lnTo>
                    <a:pt x="396" y="413"/>
                  </a:lnTo>
                  <a:lnTo>
                    <a:pt x="377" y="422"/>
                  </a:lnTo>
                  <a:lnTo>
                    <a:pt x="359" y="429"/>
                  </a:lnTo>
                  <a:lnTo>
                    <a:pt x="341" y="435"/>
                  </a:lnTo>
                  <a:lnTo>
                    <a:pt x="321" y="440"/>
                  </a:lnTo>
                  <a:lnTo>
                    <a:pt x="297" y="446"/>
                  </a:lnTo>
                  <a:lnTo>
                    <a:pt x="277" y="449"/>
                  </a:lnTo>
                  <a:lnTo>
                    <a:pt x="262" y="452"/>
                  </a:lnTo>
                  <a:lnTo>
                    <a:pt x="250" y="454"/>
                  </a:lnTo>
                  <a:lnTo>
                    <a:pt x="240" y="457"/>
                  </a:lnTo>
                  <a:lnTo>
                    <a:pt x="232" y="458"/>
                  </a:lnTo>
                  <a:lnTo>
                    <a:pt x="227" y="461"/>
                  </a:lnTo>
                  <a:lnTo>
                    <a:pt x="223" y="464"/>
                  </a:lnTo>
                  <a:lnTo>
                    <a:pt x="217" y="475"/>
                  </a:lnTo>
                  <a:lnTo>
                    <a:pt x="211" y="484"/>
                  </a:lnTo>
                  <a:lnTo>
                    <a:pt x="205" y="493"/>
                  </a:lnTo>
                  <a:lnTo>
                    <a:pt x="199" y="502"/>
                  </a:lnTo>
                  <a:lnTo>
                    <a:pt x="194" y="507"/>
                  </a:lnTo>
                  <a:lnTo>
                    <a:pt x="189" y="511"/>
                  </a:lnTo>
                  <a:lnTo>
                    <a:pt x="185" y="516"/>
                  </a:lnTo>
                  <a:lnTo>
                    <a:pt x="179" y="517"/>
                  </a:lnTo>
                  <a:lnTo>
                    <a:pt x="173" y="520"/>
                  </a:lnTo>
                  <a:lnTo>
                    <a:pt x="167" y="520"/>
                  </a:lnTo>
                  <a:lnTo>
                    <a:pt x="161" y="522"/>
                  </a:lnTo>
                  <a:lnTo>
                    <a:pt x="153" y="522"/>
                  </a:lnTo>
                  <a:lnTo>
                    <a:pt x="86" y="517"/>
                  </a:lnTo>
                  <a:close/>
                </a:path>
              </a:pathLst>
            </a:custGeom>
            <a:solidFill>
              <a:srgbClr val="a5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" name="Group 30"/>
            <p:cNvGrpSpPr/>
            <p:nvPr/>
          </p:nvGrpSpPr>
          <p:grpSpPr>
            <a:xfrm>
              <a:off x="2800440" y="2849400"/>
              <a:ext cx="3530520" cy="3200400"/>
              <a:chOff x="2800440" y="2849400"/>
              <a:chExt cx="3530520" cy="3200400"/>
            </a:xfrm>
          </p:grpSpPr>
          <p:sp>
            <p:nvSpPr>
              <p:cNvPr id="107" name="Freeform 9"/>
              <p:cNvSpPr/>
              <p:nvPr/>
            </p:nvSpPr>
            <p:spPr>
              <a:xfrm>
                <a:off x="2800440" y="2849400"/>
                <a:ext cx="3530520" cy="1878120"/>
              </a:xfrm>
              <a:custGeom>
                <a:avLst/>
                <a:gdLst/>
                <a:ahLst/>
                <a:rect l="l" t="t" r="r" b="b"/>
                <a:pathLst>
                  <a:path w="2224" h="1183">
                    <a:moveTo>
                      <a:pt x="2203" y="1120"/>
                    </a:moveTo>
                    <a:lnTo>
                      <a:pt x="2224" y="578"/>
                    </a:lnTo>
                    <a:lnTo>
                      <a:pt x="255" y="0"/>
                    </a:lnTo>
                    <a:lnTo>
                      <a:pt x="0" y="81"/>
                    </a:lnTo>
                    <a:lnTo>
                      <a:pt x="234" y="1082"/>
                    </a:lnTo>
                    <a:lnTo>
                      <a:pt x="408" y="1161"/>
                    </a:lnTo>
                    <a:lnTo>
                      <a:pt x="1965" y="1183"/>
                    </a:lnTo>
                    <a:lnTo>
                      <a:pt x="2203" y="11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Freeform 10"/>
              <p:cNvSpPr/>
              <p:nvPr/>
            </p:nvSpPr>
            <p:spPr>
              <a:xfrm>
                <a:off x="4641840" y="4552920"/>
                <a:ext cx="808200" cy="1496880"/>
              </a:xfrm>
              <a:custGeom>
                <a:avLst/>
                <a:gdLst/>
                <a:ahLst/>
                <a:rect l="l" t="t" r="r" b="b"/>
                <a:pathLst>
                  <a:path w="509" h="943">
                    <a:moveTo>
                      <a:pt x="0" y="19"/>
                    </a:moveTo>
                    <a:lnTo>
                      <a:pt x="92" y="808"/>
                    </a:lnTo>
                    <a:lnTo>
                      <a:pt x="385" y="943"/>
                    </a:lnTo>
                    <a:lnTo>
                      <a:pt x="509" y="813"/>
                    </a:lnTo>
                    <a:lnTo>
                      <a:pt x="344" y="0"/>
                    </a:lnTo>
                    <a:lnTo>
                      <a:pt x="68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9" name="Freeform 13"/>
            <p:cNvSpPr/>
            <p:nvPr/>
          </p:nvSpPr>
          <p:spPr>
            <a:xfrm>
              <a:off x="5318280" y="2522520"/>
              <a:ext cx="1338120" cy="736560"/>
            </a:xfrm>
            <a:custGeom>
              <a:avLst/>
              <a:gdLst/>
              <a:ahLst/>
              <a:rect l="l" t="t" r="r" b="b"/>
              <a:pathLst>
                <a:path w="843" h="464">
                  <a:moveTo>
                    <a:pt x="843" y="0"/>
                  </a:moveTo>
                  <a:lnTo>
                    <a:pt x="200" y="464"/>
                  </a:lnTo>
                  <a:lnTo>
                    <a:pt x="0" y="406"/>
                  </a:lnTo>
                  <a:lnTo>
                    <a:pt x="843" y="0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14"/>
            <p:cNvSpPr/>
            <p:nvPr/>
          </p:nvSpPr>
          <p:spPr>
            <a:xfrm>
              <a:off x="4483080" y="1963440"/>
              <a:ext cx="325440" cy="1100160"/>
            </a:xfrm>
            <a:custGeom>
              <a:avLst/>
              <a:gdLst/>
              <a:ahLst/>
              <a:rect l="l" t="t" r="r" b="b"/>
              <a:pathLst>
                <a:path w="205" h="693">
                  <a:moveTo>
                    <a:pt x="205" y="0"/>
                  </a:moveTo>
                  <a:lnTo>
                    <a:pt x="200" y="693"/>
                  </a:lnTo>
                  <a:lnTo>
                    <a:pt x="0" y="643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Freeform 15"/>
            <p:cNvSpPr/>
            <p:nvPr/>
          </p:nvSpPr>
          <p:spPr>
            <a:xfrm>
              <a:off x="3203640" y="1828800"/>
              <a:ext cx="760320" cy="1076040"/>
            </a:xfrm>
            <a:custGeom>
              <a:avLst/>
              <a:gdLst/>
              <a:ahLst/>
              <a:rect l="l" t="t" r="r" b="b"/>
              <a:pathLst>
                <a:path w="479" h="678">
                  <a:moveTo>
                    <a:pt x="0" y="0"/>
                  </a:moveTo>
                  <a:lnTo>
                    <a:pt x="479" y="678"/>
                  </a:lnTo>
                  <a:lnTo>
                    <a:pt x="284" y="6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Group 31"/>
            <p:cNvGrpSpPr/>
            <p:nvPr/>
          </p:nvGrpSpPr>
          <p:grpSpPr>
            <a:xfrm>
              <a:off x="2895840" y="2971800"/>
              <a:ext cx="3295440" cy="2989080"/>
              <a:chOff x="2895840" y="2971800"/>
              <a:chExt cx="3295440" cy="2989080"/>
            </a:xfrm>
          </p:grpSpPr>
          <p:grpSp>
            <p:nvGrpSpPr>
              <p:cNvPr id="113" name="Group 28"/>
              <p:cNvGrpSpPr/>
              <p:nvPr/>
            </p:nvGrpSpPr>
            <p:grpSpPr>
              <a:xfrm>
                <a:off x="2895840" y="2971800"/>
                <a:ext cx="3295440" cy="2989080"/>
                <a:chOff x="2895840" y="2971800"/>
                <a:chExt cx="3295440" cy="2989080"/>
              </a:xfrm>
            </p:grpSpPr>
            <p:sp>
              <p:nvSpPr>
                <p:cNvPr id="114" name="Freeform 11"/>
                <p:cNvSpPr/>
                <p:nvPr/>
              </p:nvSpPr>
              <p:spPr>
                <a:xfrm>
                  <a:off x="4694400" y="4483080"/>
                  <a:ext cx="665280" cy="1477800"/>
                </a:xfrm>
                <a:custGeom>
                  <a:avLst/>
                  <a:gdLst/>
                  <a:ahLst/>
                  <a:rect l="l" t="t" r="r" b="b"/>
                  <a:pathLst>
                    <a:path w="419" h="931">
                      <a:moveTo>
                        <a:pt x="0" y="3"/>
                      </a:moveTo>
                      <a:lnTo>
                        <a:pt x="125" y="800"/>
                      </a:lnTo>
                      <a:lnTo>
                        <a:pt x="285" y="931"/>
                      </a:lnTo>
                      <a:lnTo>
                        <a:pt x="419" y="860"/>
                      </a:lnTo>
                      <a:lnTo>
                        <a:pt x="244" y="0"/>
                      </a:lnTo>
                      <a:lnTo>
                        <a:pt x="15" y="7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Freeform 12"/>
                <p:cNvSpPr/>
                <p:nvPr/>
              </p:nvSpPr>
              <p:spPr>
                <a:xfrm>
                  <a:off x="4950000" y="4721040"/>
                  <a:ext cx="290520" cy="1081080"/>
                </a:xfrm>
                <a:custGeom>
                  <a:avLst/>
                  <a:gdLst/>
                  <a:ahLst/>
                  <a:rect l="l" t="t" r="r" b="b"/>
                  <a:pathLst>
                    <a:path w="183" h="681">
                      <a:moveTo>
                        <a:pt x="117" y="681"/>
                      </a:moveTo>
                      <a:lnTo>
                        <a:pt x="183" y="635"/>
                      </a:lnTo>
                      <a:lnTo>
                        <a:pt x="52" y="0"/>
                      </a:lnTo>
                      <a:lnTo>
                        <a:pt x="0" y="89"/>
                      </a:lnTo>
                      <a:lnTo>
                        <a:pt x="117" y="681"/>
                      </a:lnTo>
                      <a:close/>
                    </a:path>
                  </a:pathLst>
                </a:custGeom>
                <a:solidFill>
                  <a:srgbClr val="23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Freeform 16"/>
                <p:cNvSpPr/>
                <p:nvPr/>
              </p:nvSpPr>
              <p:spPr>
                <a:xfrm>
                  <a:off x="2895840" y="2971800"/>
                  <a:ext cx="3295440" cy="1663560"/>
                </a:xfrm>
                <a:custGeom>
                  <a:avLst/>
                  <a:gdLst/>
                  <a:ahLst/>
                  <a:rect l="l" t="t" r="r" b="b"/>
                  <a:pathLst>
                    <a:path w="2076" h="1048">
                      <a:moveTo>
                        <a:pt x="2058" y="1022"/>
                      </a:moveTo>
                      <a:lnTo>
                        <a:pt x="2076" y="547"/>
                      </a:lnTo>
                      <a:lnTo>
                        <a:pt x="218" y="0"/>
                      </a:lnTo>
                      <a:lnTo>
                        <a:pt x="0" y="51"/>
                      </a:lnTo>
                      <a:lnTo>
                        <a:pt x="213" y="984"/>
                      </a:lnTo>
                      <a:lnTo>
                        <a:pt x="382" y="1039"/>
                      </a:lnTo>
                      <a:lnTo>
                        <a:pt x="1919" y="1048"/>
                      </a:lnTo>
                      <a:lnTo>
                        <a:pt x="2058" y="1022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Freeform 17"/>
                <p:cNvSpPr/>
                <p:nvPr/>
              </p:nvSpPr>
              <p:spPr>
                <a:xfrm>
                  <a:off x="3283200" y="3111480"/>
                  <a:ext cx="2800080" cy="1346040"/>
                </a:xfrm>
                <a:custGeom>
                  <a:avLst/>
                  <a:gdLst/>
                  <a:ahLst/>
                  <a:rect l="l" t="t" r="r" b="b"/>
                  <a:pathLst>
                    <a:path w="1764" h="848">
                      <a:moveTo>
                        <a:pt x="0" y="0"/>
                      </a:moveTo>
                      <a:lnTo>
                        <a:pt x="136" y="777"/>
                      </a:lnTo>
                      <a:lnTo>
                        <a:pt x="1756" y="848"/>
                      </a:lnTo>
                      <a:lnTo>
                        <a:pt x="1764" y="50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" name="Freeform 18"/>
              <p:cNvSpPr/>
              <p:nvPr/>
            </p:nvSpPr>
            <p:spPr>
              <a:xfrm>
                <a:off x="3633840" y="3485880"/>
                <a:ext cx="498600" cy="687600"/>
              </a:xfrm>
              <a:custGeom>
                <a:avLst/>
                <a:gdLst/>
                <a:ahLst/>
                <a:rect l="l" t="t" r="r" b="b"/>
                <a:pathLst>
                  <a:path w="314" h="433">
                    <a:moveTo>
                      <a:pt x="198" y="36"/>
                    </a:moveTo>
                    <a:lnTo>
                      <a:pt x="204" y="297"/>
                    </a:lnTo>
                    <a:lnTo>
                      <a:pt x="204" y="297"/>
                    </a:lnTo>
                    <a:lnTo>
                      <a:pt x="239" y="45"/>
                    </a:lnTo>
                    <a:lnTo>
                      <a:pt x="314" y="59"/>
                    </a:lnTo>
                    <a:lnTo>
                      <a:pt x="238" y="433"/>
                    </a:lnTo>
                    <a:lnTo>
                      <a:pt x="154" y="429"/>
                    </a:lnTo>
                    <a:lnTo>
                      <a:pt x="144" y="148"/>
                    </a:lnTo>
                    <a:lnTo>
                      <a:pt x="142" y="148"/>
                    </a:lnTo>
                    <a:lnTo>
                      <a:pt x="100" y="426"/>
                    </a:lnTo>
                    <a:lnTo>
                      <a:pt x="18" y="423"/>
                    </a:lnTo>
                    <a:lnTo>
                      <a:pt x="0" y="0"/>
                    </a:lnTo>
                    <a:lnTo>
                      <a:pt x="74" y="13"/>
                    </a:lnTo>
                    <a:lnTo>
                      <a:pt x="76" y="285"/>
                    </a:lnTo>
                    <a:lnTo>
                      <a:pt x="77" y="285"/>
                    </a:lnTo>
                    <a:lnTo>
                      <a:pt x="117" y="21"/>
                    </a:lnTo>
                    <a:lnTo>
                      <a:pt x="198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Freeform 19"/>
              <p:cNvSpPr/>
              <p:nvPr/>
            </p:nvSpPr>
            <p:spPr>
              <a:xfrm>
                <a:off x="4186440" y="3612960"/>
                <a:ext cx="311040" cy="585720"/>
              </a:xfrm>
              <a:custGeom>
                <a:avLst/>
                <a:gdLst/>
                <a:ahLst/>
                <a:rect l="l" t="t" r="r" b="b"/>
                <a:pathLst>
                  <a:path w="196" h="369">
                    <a:moveTo>
                      <a:pt x="81" y="0"/>
                    </a:moveTo>
                    <a:lnTo>
                      <a:pt x="178" y="18"/>
                    </a:lnTo>
                    <a:lnTo>
                      <a:pt x="196" y="369"/>
                    </a:lnTo>
                    <a:lnTo>
                      <a:pt x="120" y="364"/>
                    </a:lnTo>
                    <a:lnTo>
                      <a:pt x="119" y="267"/>
                    </a:lnTo>
                    <a:lnTo>
                      <a:pt x="84" y="265"/>
                    </a:lnTo>
                    <a:lnTo>
                      <a:pt x="66" y="361"/>
                    </a:lnTo>
                    <a:lnTo>
                      <a:pt x="0" y="358"/>
                    </a:lnTo>
                    <a:lnTo>
                      <a:pt x="81" y="0"/>
                    </a:lnTo>
                    <a:close/>
                    <a:moveTo>
                      <a:pt x="117" y="217"/>
                    </a:moveTo>
                    <a:lnTo>
                      <a:pt x="119" y="70"/>
                    </a:lnTo>
                    <a:lnTo>
                      <a:pt x="116" y="70"/>
                    </a:lnTo>
                    <a:lnTo>
                      <a:pt x="94" y="214"/>
                    </a:lnTo>
                    <a:lnTo>
                      <a:pt x="117" y="2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Freeform 20"/>
              <p:cNvSpPr/>
              <p:nvPr/>
            </p:nvSpPr>
            <p:spPr>
              <a:xfrm>
                <a:off x="4608720" y="3678120"/>
                <a:ext cx="225360" cy="534960"/>
              </a:xfrm>
              <a:custGeom>
                <a:avLst/>
                <a:gdLst/>
                <a:ahLst/>
                <a:rect l="l" t="t" r="r" b="b"/>
                <a:pathLst>
                  <a:path w="142" h="337">
                    <a:moveTo>
                      <a:pt x="0" y="331"/>
                    </a:moveTo>
                    <a:lnTo>
                      <a:pt x="27" y="0"/>
                    </a:lnTo>
                    <a:lnTo>
                      <a:pt x="101" y="14"/>
                    </a:lnTo>
                    <a:lnTo>
                      <a:pt x="77" y="288"/>
                    </a:lnTo>
                    <a:lnTo>
                      <a:pt x="142" y="293"/>
                    </a:lnTo>
                    <a:lnTo>
                      <a:pt x="138" y="337"/>
                    </a:lnTo>
                    <a:lnTo>
                      <a:pt x="0" y="3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Freeform 21"/>
              <p:cNvSpPr/>
              <p:nvPr/>
            </p:nvSpPr>
            <p:spPr>
              <a:xfrm>
                <a:off x="4951440" y="3743280"/>
                <a:ext cx="223920" cy="485640"/>
              </a:xfrm>
              <a:custGeom>
                <a:avLst/>
                <a:gdLst/>
                <a:ahLst/>
                <a:rect l="l" t="t" r="r" b="b"/>
                <a:pathLst>
                  <a:path w="141" h="306">
                    <a:moveTo>
                      <a:pt x="0" y="300"/>
                    </a:moveTo>
                    <a:lnTo>
                      <a:pt x="28" y="0"/>
                    </a:lnTo>
                    <a:lnTo>
                      <a:pt x="101" y="14"/>
                    </a:lnTo>
                    <a:lnTo>
                      <a:pt x="76" y="262"/>
                    </a:lnTo>
                    <a:lnTo>
                      <a:pt x="141" y="265"/>
                    </a:lnTo>
                    <a:lnTo>
                      <a:pt x="137" y="306"/>
                    </a:lnTo>
                    <a:lnTo>
                      <a:pt x="0" y="3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Freeform 22"/>
              <p:cNvSpPr/>
              <p:nvPr/>
            </p:nvSpPr>
            <p:spPr>
              <a:xfrm>
                <a:off x="5380200" y="3892320"/>
                <a:ext cx="198360" cy="270000"/>
              </a:xfrm>
              <a:custGeom>
                <a:avLst/>
                <a:gdLst/>
                <a:ahLst/>
                <a:rect l="l" t="t" r="r" b="b"/>
                <a:pathLst>
                  <a:path w="125" h="170">
                    <a:moveTo>
                      <a:pt x="73" y="64"/>
                    </a:moveTo>
                    <a:lnTo>
                      <a:pt x="76" y="38"/>
                    </a:lnTo>
                    <a:lnTo>
                      <a:pt x="76" y="35"/>
                    </a:lnTo>
                    <a:lnTo>
                      <a:pt x="75" y="30"/>
                    </a:lnTo>
                    <a:lnTo>
                      <a:pt x="73" y="27"/>
                    </a:lnTo>
                    <a:lnTo>
                      <a:pt x="69" y="26"/>
                    </a:lnTo>
                    <a:lnTo>
                      <a:pt x="64" y="26"/>
                    </a:lnTo>
                    <a:lnTo>
                      <a:pt x="61" y="27"/>
                    </a:lnTo>
                    <a:lnTo>
                      <a:pt x="59" y="32"/>
                    </a:lnTo>
                    <a:lnTo>
                      <a:pt x="59" y="35"/>
                    </a:lnTo>
                    <a:lnTo>
                      <a:pt x="61" y="50"/>
                    </a:lnTo>
                    <a:lnTo>
                      <a:pt x="67" y="61"/>
                    </a:lnTo>
                    <a:lnTo>
                      <a:pt x="78" y="71"/>
                    </a:lnTo>
                    <a:lnTo>
                      <a:pt x="88" y="79"/>
                    </a:lnTo>
                    <a:lnTo>
                      <a:pt x="100" y="89"/>
                    </a:lnTo>
                    <a:lnTo>
                      <a:pt x="109" y="100"/>
                    </a:lnTo>
                    <a:lnTo>
                      <a:pt x="116" y="115"/>
                    </a:lnTo>
                    <a:lnTo>
                      <a:pt x="117" y="133"/>
                    </a:lnTo>
                    <a:lnTo>
                      <a:pt x="116" y="147"/>
                    </a:lnTo>
                    <a:lnTo>
                      <a:pt x="114" y="153"/>
                    </a:lnTo>
                    <a:lnTo>
                      <a:pt x="109" y="159"/>
                    </a:lnTo>
                    <a:lnTo>
                      <a:pt x="103" y="164"/>
                    </a:lnTo>
                    <a:lnTo>
                      <a:pt x="96" y="167"/>
                    </a:lnTo>
                    <a:lnTo>
                      <a:pt x="87" y="170"/>
                    </a:lnTo>
                    <a:lnTo>
                      <a:pt x="76" y="170"/>
                    </a:lnTo>
                    <a:lnTo>
                      <a:pt x="65" y="170"/>
                    </a:lnTo>
                    <a:lnTo>
                      <a:pt x="55" y="170"/>
                    </a:lnTo>
                    <a:lnTo>
                      <a:pt x="44" y="168"/>
                    </a:lnTo>
                    <a:lnTo>
                      <a:pt x="34" y="167"/>
                    </a:lnTo>
                    <a:lnTo>
                      <a:pt x="25" y="162"/>
                    </a:lnTo>
                    <a:lnTo>
                      <a:pt x="15" y="159"/>
                    </a:lnTo>
                    <a:lnTo>
                      <a:pt x="9" y="155"/>
                    </a:lnTo>
                    <a:lnTo>
                      <a:pt x="3" y="149"/>
                    </a:lnTo>
                    <a:lnTo>
                      <a:pt x="0" y="141"/>
                    </a:lnTo>
                    <a:lnTo>
                      <a:pt x="0" y="133"/>
                    </a:lnTo>
                    <a:lnTo>
                      <a:pt x="5" y="95"/>
                    </a:lnTo>
                    <a:lnTo>
                      <a:pt x="53" y="102"/>
                    </a:lnTo>
                    <a:lnTo>
                      <a:pt x="50" y="133"/>
                    </a:lnTo>
                    <a:lnTo>
                      <a:pt x="50" y="136"/>
                    </a:lnTo>
                    <a:lnTo>
                      <a:pt x="50" y="141"/>
                    </a:lnTo>
                    <a:lnTo>
                      <a:pt x="53" y="144"/>
                    </a:lnTo>
                    <a:lnTo>
                      <a:pt x="58" y="146"/>
                    </a:lnTo>
                    <a:lnTo>
                      <a:pt x="62" y="146"/>
                    </a:lnTo>
                    <a:lnTo>
                      <a:pt x="65" y="143"/>
                    </a:lnTo>
                    <a:lnTo>
                      <a:pt x="67" y="139"/>
                    </a:lnTo>
                    <a:lnTo>
                      <a:pt x="67" y="136"/>
                    </a:lnTo>
                    <a:lnTo>
                      <a:pt x="65" y="120"/>
                    </a:lnTo>
                    <a:lnTo>
                      <a:pt x="59" y="105"/>
                    </a:lnTo>
                    <a:lnTo>
                      <a:pt x="50" y="94"/>
                    </a:lnTo>
                    <a:lnTo>
                      <a:pt x="38" y="85"/>
                    </a:lnTo>
                    <a:lnTo>
                      <a:pt x="26" y="76"/>
                    </a:lnTo>
                    <a:lnTo>
                      <a:pt x="17" y="65"/>
                    </a:lnTo>
                    <a:lnTo>
                      <a:pt x="11" y="55"/>
                    </a:lnTo>
                    <a:lnTo>
                      <a:pt x="9" y="42"/>
                    </a:lnTo>
                    <a:lnTo>
                      <a:pt x="11" y="21"/>
                    </a:lnTo>
                    <a:lnTo>
                      <a:pt x="12" y="14"/>
                    </a:lnTo>
                    <a:lnTo>
                      <a:pt x="17" y="9"/>
                    </a:lnTo>
                    <a:lnTo>
                      <a:pt x="23" y="4"/>
                    </a:lnTo>
                    <a:lnTo>
                      <a:pt x="31" y="1"/>
                    </a:lnTo>
                    <a:lnTo>
                      <a:pt x="40" y="0"/>
                    </a:lnTo>
                    <a:lnTo>
                      <a:pt x="50" y="0"/>
                    </a:lnTo>
                    <a:lnTo>
                      <a:pt x="61" y="0"/>
                    </a:lnTo>
                    <a:lnTo>
                      <a:pt x="72" y="1"/>
                    </a:lnTo>
                    <a:lnTo>
                      <a:pt x="82" y="4"/>
                    </a:lnTo>
                    <a:lnTo>
                      <a:pt x="93" y="8"/>
                    </a:lnTo>
                    <a:lnTo>
                      <a:pt x="102" y="11"/>
                    </a:lnTo>
                    <a:lnTo>
                      <a:pt x="111" y="15"/>
                    </a:lnTo>
                    <a:lnTo>
                      <a:pt x="117" y="21"/>
                    </a:lnTo>
                    <a:lnTo>
                      <a:pt x="122" y="27"/>
                    </a:lnTo>
                    <a:lnTo>
                      <a:pt x="125" y="33"/>
                    </a:lnTo>
                    <a:lnTo>
                      <a:pt x="125" y="41"/>
                    </a:lnTo>
                    <a:lnTo>
                      <a:pt x="122" y="71"/>
                    </a:lnTo>
                    <a:lnTo>
                      <a:pt x="73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Freeform 23"/>
              <p:cNvSpPr/>
              <p:nvPr/>
            </p:nvSpPr>
            <p:spPr>
              <a:xfrm>
                <a:off x="5658120" y="3930480"/>
                <a:ext cx="182520" cy="252360"/>
              </a:xfrm>
              <a:custGeom>
                <a:avLst/>
                <a:gdLst/>
                <a:ahLst/>
                <a:rect l="l" t="t" r="r" b="b"/>
                <a:pathLst>
                  <a:path w="115" h="159">
                    <a:moveTo>
                      <a:pt x="65" y="159"/>
                    </a:moveTo>
                    <a:lnTo>
                      <a:pt x="16" y="155"/>
                    </a:lnTo>
                    <a:lnTo>
                      <a:pt x="31" y="27"/>
                    </a:lnTo>
                    <a:lnTo>
                      <a:pt x="0" y="23"/>
                    </a:lnTo>
                    <a:lnTo>
                      <a:pt x="1" y="0"/>
                    </a:lnTo>
                    <a:lnTo>
                      <a:pt x="115" y="21"/>
                    </a:lnTo>
                    <a:lnTo>
                      <a:pt x="113" y="43"/>
                    </a:lnTo>
                    <a:lnTo>
                      <a:pt x="80" y="37"/>
                    </a:lnTo>
                    <a:lnTo>
                      <a:pt x="65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Freeform 24"/>
          <p:cNvSpPr/>
          <p:nvPr/>
        </p:nvSpPr>
        <p:spPr>
          <a:xfrm>
            <a:off x="5770440" y="4221000"/>
            <a:ext cx="74880" cy="51120"/>
          </a:xfrm>
          <a:custGeom>
            <a:avLst/>
            <a:gdLst/>
            <a:ahLst/>
            <a:rect l="l" t="t" r="r" b="b"/>
            <a:pathLst>
              <a:path w="47" h="32">
                <a:moveTo>
                  <a:pt x="0" y="27"/>
                </a:moveTo>
                <a:lnTo>
                  <a:pt x="5" y="0"/>
                </a:lnTo>
                <a:lnTo>
                  <a:pt x="47" y="5"/>
                </a:lnTo>
                <a:lnTo>
                  <a:pt x="44" y="32"/>
                </a:lnTo>
                <a:lnTo>
                  <a:pt x="0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073480" cy="151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Ch. 12</a:t>
            </a:r>
            <a:br>
              <a:rPr sz="4000"/>
            </a:b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ost of Capita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6178320" cy="80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h. 12 - Cost of Capita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09400"/>
            <a:ext cx="8191440" cy="50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or Investor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, the rate of return on a security is a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benefit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of investing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or Financial Manager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, that same rate of return is a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ost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of raising funds that are needed to operate the firm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n other words, the cost of raising funds is the firm’s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ost of capital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169040" cy="70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How can the firm raise capital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345680"/>
            <a:ext cx="7772400" cy="551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Bo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eferred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ommon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Each of these offers a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ate of retur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to investo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is return is a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ost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to the fi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ost of capital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actually refers to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ighted cost of capital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- a weighted average cost of financing sources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486040" y="380520"/>
            <a:ext cx="2971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Cost of Debt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5724360" cy="5486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62520" y="380520"/>
            <a:ext cx="3968640" cy="6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Deb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60004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or the issuing firm, th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ost of debt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is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ate of return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required by investors,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djusted fo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lotation cost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(any costs associated with issuing new bonds), an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djusted fo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ax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6880" y="0"/>
            <a:ext cx="5378400" cy="122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Example:  Tax effects of financing with deb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593360"/>
            <a:ext cx="8534160" cy="52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with stock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with 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BIT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400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40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- interest expense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          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(50,0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BT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400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35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- taxes (34%)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(136,000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(119,0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AT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264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231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6880" y="0"/>
            <a:ext cx="5378400" cy="122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Example:  Tax effects of financing with deb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93360"/>
            <a:ext cx="8534160" cy="52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with stock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with 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BIT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400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40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- interest expense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          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(50,0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BT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400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35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- taxes (34%)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(136,000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(119,0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AT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264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231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w, suppose the firm pays $50,000 in dividends to the stockhold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5867280" y="4267080"/>
            <a:ext cx="1009800" cy="0"/>
          </a:xfrm>
          <a:prstGeom prst="line">
            <a:avLst/>
          </a:prstGeom>
          <a:ln w="50760">
            <a:solidFill>
              <a:srgbClr val="ffffc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666880" y="0"/>
            <a:ext cx="5378400" cy="122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Example:  Tax effects of financing with deb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93360"/>
            <a:ext cx="8534160" cy="526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with stock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with 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BIT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400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40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- interest expense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          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(50,0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BT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400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35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- taxes (34%)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(136,000)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(119,0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AT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264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231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- dividends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(50,000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           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Retained earnings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14,000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231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5791320" y="6019920"/>
            <a:ext cx="1009440" cy="0"/>
          </a:xfrm>
          <a:prstGeom prst="line">
            <a:avLst/>
          </a:prstGeom>
          <a:ln w="50760">
            <a:solidFill>
              <a:srgbClr val="ffffcc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-360" y="266400"/>
            <a:ext cx="91314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fter-tax            Before-tax                      Margi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% cost of             % cost  of        x                 ta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ebt                     Debt                               r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8" name="Group 3"/>
          <p:cNvGrpSpPr/>
          <p:nvPr/>
        </p:nvGrpSpPr>
        <p:grpSpPr>
          <a:xfrm>
            <a:off x="158760" y="196920"/>
            <a:ext cx="8959680" cy="1606320"/>
            <a:chOff x="158760" y="196920"/>
            <a:chExt cx="8959680" cy="1606320"/>
          </a:xfrm>
        </p:grpSpPr>
        <p:sp>
          <p:nvSpPr>
            <p:cNvPr id="169" name="AutoShape 4"/>
            <p:cNvSpPr/>
            <p:nvPr/>
          </p:nvSpPr>
          <p:spPr>
            <a:xfrm>
              <a:off x="6445080" y="254160"/>
              <a:ext cx="2673360" cy="151128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AutoShape 5"/>
            <p:cNvSpPr/>
            <p:nvPr/>
          </p:nvSpPr>
          <p:spPr>
            <a:xfrm>
              <a:off x="3054240" y="235080"/>
              <a:ext cx="2273400" cy="153036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AutoShape 6"/>
            <p:cNvSpPr/>
            <p:nvPr/>
          </p:nvSpPr>
          <p:spPr>
            <a:xfrm>
              <a:off x="158760" y="196920"/>
              <a:ext cx="1987560" cy="160632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Rectangle 8"/>
          <p:cNvSpPr/>
          <p:nvPr/>
        </p:nvSpPr>
        <p:spPr>
          <a:xfrm>
            <a:off x="6994080" y="722160"/>
            <a:ext cx="337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2345760" y="685800"/>
            <a:ext cx="44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6498720" y="631800"/>
            <a:ext cx="5281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-360" y="266400"/>
            <a:ext cx="91314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fter-tax            Before-tax                      Margi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% cost of             % cost  of        x                 ta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ebt                     Debt                               r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K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=           k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(1 - T)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AutoShape 2"/>
          <p:cNvSpPr/>
          <p:nvPr/>
        </p:nvSpPr>
        <p:spPr>
          <a:xfrm>
            <a:off x="1066680" y="2286000"/>
            <a:ext cx="7207200" cy="95868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158760" y="196920"/>
            <a:ext cx="8959680" cy="1606320"/>
            <a:chOff x="158760" y="196920"/>
            <a:chExt cx="8959680" cy="1606320"/>
          </a:xfrm>
        </p:grpSpPr>
        <p:sp>
          <p:nvSpPr>
            <p:cNvPr id="178" name="AutoShape 4"/>
            <p:cNvSpPr/>
            <p:nvPr/>
          </p:nvSpPr>
          <p:spPr>
            <a:xfrm>
              <a:off x="6445080" y="254160"/>
              <a:ext cx="2673360" cy="151128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AutoShape 5"/>
            <p:cNvSpPr/>
            <p:nvPr/>
          </p:nvSpPr>
          <p:spPr>
            <a:xfrm>
              <a:off x="3054240" y="235080"/>
              <a:ext cx="2273400" cy="153036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AutoShape 6"/>
            <p:cNvSpPr/>
            <p:nvPr/>
          </p:nvSpPr>
          <p:spPr>
            <a:xfrm>
              <a:off x="158760" y="196920"/>
              <a:ext cx="1987560" cy="160632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" name="Rectangle 7"/>
          <p:cNvSpPr/>
          <p:nvPr/>
        </p:nvSpPr>
        <p:spPr>
          <a:xfrm>
            <a:off x="6994080" y="722160"/>
            <a:ext cx="337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2345760" y="685800"/>
            <a:ext cx="44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6498720" y="631800"/>
            <a:ext cx="5281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-360" y="266400"/>
            <a:ext cx="91314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fter-tax            Before-tax                      Margi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% cost of             % cost  of        x                 ta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ebt                     Debt                               r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K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=           k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(1 - T)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.066          =          .10   (1 - .34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AutoShape 2"/>
          <p:cNvSpPr/>
          <p:nvPr/>
        </p:nvSpPr>
        <p:spPr>
          <a:xfrm>
            <a:off x="1066680" y="2286000"/>
            <a:ext cx="7207200" cy="958680"/>
          </a:xfrm>
          <a:prstGeom prst="roundRect">
            <a:avLst>
              <a:gd name="adj" fmla="val 12495"/>
            </a:avLst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Group 3"/>
          <p:cNvGrpSpPr/>
          <p:nvPr/>
        </p:nvGrpSpPr>
        <p:grpSpPr>
          <a:xfrm>
            <a:off x="158760" y="196920"/>
            <a:ext cx="8959680" cy="1606320"/>
            <a:chOff x="158760" y="196920"/>
            <a:chExt cx="8959680" cy="1606320"/>
          </a:xfrm>
        </p:grpSpPr>
        <p:sp>
          <p:nvSpPr>
            <p:cNvPr id="187" name="AutoShape 4"/>
            <p:cNvSpPr/>
            <p:nvPr/>
          </p:nvSpPr>
          <p:spPr>
            <a:xfrm>
              <a:off x="6445080" y="254160"/>
              <a:ext cx="2673360" cy="151128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>
              <a:off x="3054240" y="235080"/>
              <a:ext cx="2273400" cy="153036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AutoShape 6"/>
            <p:cNvSpPr/>
            <p:nvPr/>
          </p:nvSpPr>
          <p:spPr>
            <a:xfrm>
              <a:off x="158760" y="196920"/>
              <a:ext cx="1987560" cy="160632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Rectangle 7"/>
          <p:cNvSpPr/>
          <p:nvPr/>
        </p:nvSpPr>
        <p:spPr>
          <a:xfrm>
            <a:off x="6994080" y="722160"/>
            <a:ext cx="337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-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2345760" y="685800"/>
            <a:ext cx="44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6498720" y="631800"/>
            <a:ext cx="5281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38120" y="1828800"/>
            <a:ext cx="815328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Basic Skills: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Time value of money, Financial Statements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Investments: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Stocks, Bonds, Risk and Return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orporate Finance: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The Investment Decision - Capital Budgeting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294920" y="457200"/>
            <a:ext cx="713916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Where we’ve been...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666880" y="304920"/>
            <a:ext cx="5531040" cy="65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Example:  Cost of Deb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943760" cy="554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escott Corporation issues a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$1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par,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20 year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bond paying the market rate of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10%.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Coupons are semiannual.  The bond will sell for par since it pays the market rate, but flotation costs amount to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$5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per bon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hat is the pre-tax and after-tax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st of debt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for Prescott Corporation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-360" y="247680"/>
            <a:ext cx="9131400" cy="66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-tax cost of debt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  (using TVM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 = 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4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MT =  -5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-1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95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olve:  I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0.61%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=  k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fter-tax cost of debt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Kd    =    kd (1 - T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Kd    =    .1061 (1 - .34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Kd    =    .07    =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7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5454720" y="2216160"/>
            <a:ext cx="3568680" cy="3930480"/>
          </a:xfrm>
          <a:prstGeom prst="rect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-360" y="247680"/>
            <a:ext cx="9131400" cy="66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-tax cost of debt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  (using TVM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 = 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4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MT =  -5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-1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, a 10% bon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95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sts the fir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olve:  I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0.61%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=  kd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l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7%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(wit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fter-tax cost of debt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lotation costs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Kd    =    kd (1 - T)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nce the interes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Kd    =    .1061 (1 - .34)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s tax deductib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Kd    =    .07    =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7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61261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Preferred Stoc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Finding th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st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of preferred stock is similar to finding th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ate of return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, (from Chapter 8) except that we have to consider th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lotation cost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associated with issuing preferred stock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666520" y="-360"/>
            <a:ext cx="54738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Preferred Stoc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009800"/>
            <a:ext cx="8705880" cy="583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Recall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"/>
          <p:cNvSpPr/>
          <p:nvPr/>
        </p:nvSpPr>
        <p:spPr>
          <a:xfrm>
            <a:off x="1587600" y="1816200"/>
            <a:ext cx="2844720" cy="16254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666520" y="-360"/>
            <a:ext cx="54738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Preferred Stoc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009800"/>
            <a:ext cx="8705880" cy="583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Recall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1" lang="en-US" sz="3600" spc="-1" strike="noStrike" baseline="-25000">
                <a:solidFill>
                  <a:srgbClr val="ffffcc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=                  =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3413160" y="2112840"/>
            <a:ext cx="69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o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5698440" y="2055960"/>
            <a:ext cx="1963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Dividen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ic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1587600" y="1816200"/>
            <a:ext cx="2844720" cy="16254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666520" y="-360"/>
            <a:ext cx="5473800" cy="78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Preferred Stoc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560" y="1009800"/>
            <a:ext cx="8705880" cy="583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Recall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1" lang="en-US" sz="3600" spc="-1" strike="noStrike" baseline="-25000">
                <a:solidFill>
                  <a:srgbClr val="ffffcc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=                  =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From the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firm’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point of view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3413160" y="2112840"/>
            <a:ext cx="69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o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5698440" y="2055960"/>
            <a:ext cx="1963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Dividen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ic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1625760" y="4483080"/>
            <a:ext cx="2844720" cy="16257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1587600" y="1816200"/>
            <a:ext cx="2844720" cy="16254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666520" y="-360"/>
            <a:ext cx="54738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Preferred Stoc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009800"/>
            <a:ext cx="8705880" cy="583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Recall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1" lang="en-US" sz="3600" spc="-1" strike="noStrike" baseline="-25000">
                <a:solidFill>
                  <a:srgbClr val="ffffcc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=                  =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From the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firm’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point of view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1" lang="en-US" sz="3600" spc="-1" strike="noStrike" baseline="-25000">
                <a:solidFill>
                  <a:srgbClr val="ffffcc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=                  =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3413160" y="2112840"/>
            <a:ext cx="69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o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5698440" y="2055960"/>
            <a:ext cx="1963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Dividen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ic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5718960" y="4722840"/>
            <a:ext cx="1998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Dividen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et Pric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Group 9"/>
          <p:cNvGrpSpPr/>
          <p:nvPr/>
        </p:nvGrpSpPr>
        <p:grpSpPr>
          <a:xfrm>
            <a:off x="3260520" y="4665600"/>
            <a:ext cx="1023120" cy="1189800"/>
            <a:chOff x="3260520" y="4665600"/>
            <a:chExt cx="1023120" cy="1189800"/>
          </a:xfrm>
        </p:grpSpPr>
        <p:sp>
          <p:nvSpPr>
            <p:cNvPr id="220" name="Rectangle 10"/>
            <p:cNvSpPr/>
            <p:nvPr/>
          </p:nvSpPr>
          <p:spPr>
            <a:xfrm>
              <a:off x="3260520" y="4665600"/>
              <a:ext cx="10231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NPo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11"/>
            <p:cNvSpPr/>
            <p:nvPr/>
          </p:nvSpPr>
          <p:spPr>
            <a:xfrm>
              <a:off x="3295800" y="5219640"/>
              <a:ext cx="8762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625760" y="4483080"/>
            <a:ext cx="2844720" cy="16257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1587600" y="1816200"/>
            <a:ext cx="2844720" cy="16254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666520" y="-360"/>
            <a:ext cx="54738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Preferred Stoc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009800"/>
            <a:ext cx="8705880" cy="583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Recall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1" lang="en-US" sz="3600" spc="-1" strike="noStrike" baseline="-25000">
                <a:solidFill>
                  <a:srgbClr val="ffffcc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=                  =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From the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firm’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point of view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1" lang="en-US" sz="3600" spc="-1" strike="noStrike" baseline="-25000">
                <a:solidFill>
                  <a:srgbClr val="ffffcc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=                  =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NPo = price - flotation costs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413160" y="2112840"/>
            <a:ext cx="69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o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5698440" y="2055960"/>
            <a:ext cx="1963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Dividen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ic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718960" y="4722840"/>
            <a:ext cx="1998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Dividen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et Pric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3260520" y="4665600"/>
            <a:ext cx="1023120" cy="1189800"/>
            <a:chOff x="3260520" y="4665600"/>
            <a:chExt cx="1023120" cy="1189800"/>
          </a:xfrm>
        </p:grpSpPr>
        <p:sp>
          <p:nvSpPr>
            <p:cNvPr id="230" name="Rectangle 10"/>
            <p:cNvSpPr/>
            <p:nvPr/>
          </p:nvSpPr>
          <p:spPr>
            <a:xfrm>
              <a:off x="3260520" y="4665600"/>
              <a:ext cx="10231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NPo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Line 11"/>
            <p:cNvSpPr/>
            <p:nvPr/>
          </p:nvSpPr>
          <p:spPr>
            <a:xfrm>
              <a:off x="3295800" y="5219640"/>
              <a:ext cx="8762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55956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Example: Cost of Preferred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2201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f Prescott Corporation issues preferred stock, it will pay a dividend of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8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per year and should be valued at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75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per share.  If flotation costs amount to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per share, what is the cost of preferred stock for Prescott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8200" y="2361960"/>
            <a:ext cx="815364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ssets                              Liabilities &amp; Equ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assets                 Curr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ixed assets                      Long-term 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                        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eferred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                        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mmon Equ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Line 3"/>
          <p:cNvSpPr/>
          <p:nvPr/>
        </p:nvSpPr>
        <p:spPr>
          <a:xfrm>
            <a:off x="4095720" y="2857680"/>
            <a:ext cx="0" cy="300960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666520" y="404280"/>
            <a:ext cx="5473800" cy="73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Preferred Stoc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1301760" y="1606680"/>
            <a:ext cx="2844720" cy="16254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666520" y="404280"/>
            <a:ext cx="5473800" cy="7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Preferred Stoc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010800" cy="35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p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=   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5680800" y="1846440"/>
            <a:ext cx="1998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Dividen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et Pric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9" name="Group 7"/>
          <p:cNvGrpSpPr/>
          <p:nvPr/>
        </p:nvGrpSpPr>
        <p:grpSpPr>
          <a:xfrm>
            <a:off x="2841120" y="1789200"/>
            <a:ext cx="1023120" cy="1189800"/>
            <a:chOff x="2841120" y="1789200"/>
            <a:chExt cx="1023120" cy="1189800"/>
          </a:xfrm>
        </p:grpSpPr>
        <p:sp>
          <p:nvSpPr>
            <p:cNvPr id="240" name="Rectangle 8"/>
            <p:cNvSpPr/>
            <p:nvPr/>
          </p:nvSpPr>
          <p:spPr>
            <a:xfrm>
              <a:off x="2841120" y="1789200"/>
              <a:ext cx="10231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NPo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9"/>
            <p:cNvSpPr/>
            <p:nvPr/>
          </p:nvSpPr>
          <p:spPr>
            <a:xfrm>
              <a:off x="2876400" y="2343240"/>
              <a:ext cx="8766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Rectangle 11"/>
          <p:cNvSpPr/>
          <p:nvPr/>
        </p:nvSpPr>
        <p:spPr>
          <a:xfrm>
            <a:off x="136440" y="2209680"/>
            <a:ext cx="9010800" cy="35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=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01760" y="1606680"/>
            <a:ext cx="2844720" cy="16254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666520" y="404280"/>
            <a:ext cx="5473800" cy="7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Preferred Stoc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010800" cy="35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p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=                  =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=                  =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5680800" y="1846440"/>
            <a:ext cx="1998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Dividen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et Pric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Group 7"/>
          <p:cNvGrpSpPr/>
          <p:nvPr/>
        </p:nvGrpSpPr>
        <p:grpSpPr>
          <a:xfrm>
            <a:off x="2841120" y="1789200"/>
            <a:ext cx="1023120" cy="1189800"/>
            <a:chOff x="2841120" y="1789200"/>
            <a:chExt cx="1023120" cy="1189800"/>
          </a:xfrm>
        </p:grpSpPr>
        <p:sp>
          <p:nvSpPr>
            <p:cNvPr id="248" name="Rectangle 8"/>
            <p:cNvSpPr/>
            <p:nvPr/>
          </p:nvSpPr>
          <p:spPr>
            <a:xfrm>
              <a:off x="2841120" y="1789200"/>
              <a:ext cx="10231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NPo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9"/>
            <p:cNvSpPr/>
            <p:nvPr/>
          </p:nvSpPr>
          <p:spPr>
            <a:xfrm>
              <a:off x="2876400" y="2343240"/>
              <a:ext cx="8766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Rectangle 10"/>
          <p:cNvSpPr/>
          <p:nvPr/>
        </p:nvSpPr>
        <p:spPr>
          <a:xfrm>
            <a:off x="3069720" y="3713040"/>
            <a:ext cx="1213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8.00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74.00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5835600" y="3778200"/>
            <a:ext cx="1892520" cy="10731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1301760" y="1606680"/>
            <a:ext cx="2844720" cy="16254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666520" y="404280"/>
            <a:ext cx="5473800" cy="73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Preferred Stoc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010800" cy="353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p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=                  =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=                  =          10.81%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5680800" y="1846440"/>
            <a:ext cx="1998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Dividend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et Pric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Group 7"/>
          <p:cNvGrpSpPr/>
          <p:nvPr/>
        </p:nvGrpSpPr>
        <p:grpSpPr>
          <a:xfrm>
            <a:off x="2841120" y="1789200"/>
            <a:ext cx="1023120" cy="1189800"/>
            <a:chOff x="2841120" y="1789200"/>
            <a:chExt cx="1023120" cy="1189800"/>
          </a:xfrm>
        </p:grpSpPr>
        <p:sp>
          <p:nvSpPr>
            <p:cNvPr id="257" name="Rectangle 8"/>
            <p:cNvSpPr/>
            <p:nvPr/>
          </p:nvSpPr>
          <p:spPr>
            <a:xfrm>
              <a:off x="2841120" y="1789200"/>
              <a:ext cx="10231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D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NPo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9"/>
            <p:cNvSpPr/>
            <p:nvPr/>
          </p:nvSpPr>
          <p:spPr>
            <a:xfrm>
              <a:off x="2876400" y="2343240"/>
              <a:ext cx="8766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Rectangle 10"/>
          <p:cNvSpPr/>
          <p:nvPr/>
        </p:nvSpPr>
        <p:spPr>
          <a:xfrm>
            <a:off x="3069720" y="3713040"/>
            <a:ext cx="1213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8.00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74.00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666520" y="240840"/>
            <a:ext cx="5645160" cy="9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Common Stoc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230480"/>
            <a:ext cx="7715160" cy="562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re are 2 sources of Common Equity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1)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ernal common equity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(retained earnings), an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2)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ternal common equity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(new common stock issue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o these 2 sources have the same cost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33360" y="336600"/>
            <a:ext cx="5892840" cy="80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Internal Equit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962840" cy="512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ince the stockholders own the firm’s retained earnings, the cost is simply the stockholders’ required rate of retur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y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f managers are investing stockholders’ funds, stockholders will expect to earn an acceptable rate of retur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14600" y="488880"/>
            <a:ext cx="56642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Internal Equit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14600" y="488880"/>
            <a:ext cx="56642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Internal Equit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0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1)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Dividend Growth Mode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14600" y="488880"/>
            <a:ext cx="56642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Internal Equit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0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1)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Dividend Growth Mode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            + 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9" name="Group 8"/>
          <p:cNvGrpSpPr/>
          <p:nvPr/>
        </p:nvGrpSpPr>
        <p:grpSpPr>
          <a:xfrm>
            <a:off x="2739960" y="2590920"/>
            <a:ext cx="723960" cy="1189800"/>
            <a:chOff x="2739960" y="2590920"/>
            <a:chExt cx="723960" cy="1189800"/>
          </a:xfrm>
        </p:grpSpPr>
        <p:sp>
          <p:nvSpPr>
            <p:cNvPr id="270" name="Rectangle 5"/>
            <p:cNvSpPr/>
            <p:nvPr/>
          </p:nvSpPr>
          <p:spPr>
            <a:xfrm>
              <a:off x="2742480" y="2590920"/>
              <a:ext cx="6940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Po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6"/>
            <p:cNvSpPr/>
            <p:nvPr/>
          </p:nvSpPr>
          <p:spPr>
            <a:xfrm>
              <a:off x="2739960" y="3200400"/>
              <a:ext cx="7239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14600" y="488880"/>
            <a:ext cx="56642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Internal Equit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0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1)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Dividend Growth Mode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            + 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2)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Capital Asset Pricing Model (CAPM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4" name="Group 8"/>
          <p:cNvGrpSpPr/>
          <p:nvPr/>
        </p:nvGrpSpPr>
        <p:grpSpPr>
          <a:xfrm>
            <a:off x="2739960" y="2590920"/>
            <a:ext cx="723960" cy="1189800"/>
            <a:chOff x="2739960" y="2590920"/>
            <a:chExt cx="723960" cy="1189800"/>
          </a:xfrm>
        </p:grpSpPr>
        <p:sp>
          <p:nvSpPr>
            <p:cNvPr id="275" name="Rectangle 5"/>
            <p:cNvSpPr/>
            <p:nvPr/>
          </p:nvSpPr>
          <p:spPr>
            <a:xfrm>
              <a:off x="2742480" y="2590920"/>
              <a:ext cx="6940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Po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Line 6"/>
            <p:cNvSpPr/>
            <p:nvPr/>
          </p:nvSpPr>
          <p:spPr>
            <a:xfrm>
              <a:off x="2739960" y="3200400"/>
              <a:ext cx="7239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387360" y="2406600"/>
            <a:ext cx="3111480" cy="248292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8200" y="2361960"/>
            <a:ext cx="815364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ssets                              Liabilities &amp; Equ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assets                 Curr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ixed assets                      Long-term 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                        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eferred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                        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mmon Equ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4095720" y="2857680"/>
            <a:ext cx="0" cy="300960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260360" y="227160"/>
            <a:ext cx="488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investment decis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 flipH="1">
            <a:off x="2209680" y="762120"/>
            <a:ext cx="1067040" cy="154296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14600" y="488880"/>
            <a:ext cx="56642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Internal Equit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508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1)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Dividend Growth Mode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            + 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2)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Capital Asset Pricing Model (CAPM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j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=  k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rf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+    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j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(k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- k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rf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9" name="Group 4"/>
          <p:cNvGrpSpPr/>
          <p:nvPr/>
        </p:nvGrpSpPr>
        <p:grpSpPr>
          <a:xfrm>
            <a:off x="2739960" y="2590920"/>
            <a:ext cx="1984320" cy="3506040"/>
            <a:chOff x="2739960" y="2590920"/>
            <a:chExt cx="1984320" cy="3506040"/>
          </a:xfrm>
        </p:grpSpPr>
        <p:sp>
          <p:nvSpPr>
            <p:cNvPr id="280" name="Rectangle 5"/>
            <p:cNvSpPr/>
            <p:nvPr/>
          </p:nvSpPr>
          <p:spPr>
            <a:xfrm>
              <a:off x="2742480" y="2590920"/>
              <a:ext cx="6940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Po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Line 6"/>
            <p:cNvSpPr/>
            <p:nvPr/>
          </p:nvSpPr>
          <p:spPr>
            <a:xfrm>
              <a:off x="2739960" y="3200400"/>
              <a:ext cx="7239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Rectangle 7"/>
            <p:cNvSpPr/>
            <p:nvPr/>
          </p:nvSpPr>
          <p:spPr>
            <a:xfrm>
              <a:off x="4098960" y="5181480"/>
              <a:ext cx="6253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</a:t>
              </a:r>
              <a:endParaRPr b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14600" y="488880"/>
            <a:ext cx="56642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External Equit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04560" y="2057040"/>
            <a:ext cx="855324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Dividend Growth Mode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2514600" y="488880"/>
            <a:ext cx="56642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External Equit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04560" y="2057040"/>
            <a:ext cx="855324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Dividend Growth Mode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Times New Roman"/>
              </a:rPr>
              <a:t>nc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=           + g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2514600" y="488880"/>
            <a:ext cx="56642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External Equit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88" name="Group 10"/>
          <p:cNvGrpSpPr/>
          <p:nvPr/>
        </p:nvGrpSpPr>
        <p:grpSpPr>
          <a:xfrm>
            <a:off x="2513520" y="2971800"/>
            <a:ext cx="1210680" cy="1567080"/>
            <a:chOff x="2513520" y="2971800"/>
            <a:chExt cx="1210680" cy="1567080"/>
          </a:xfrm>
        </p:grpSpPr>
        <p:sp>
          <p:nvSpPr>
            <p:cNvPr id="289" name="Rectangle 6"/>
            <p:cNvSpPr/>
            <p:nvPr/>
          </p:nvSpPr>
          <p:spPr>
            <a:xfrm>
              <a:off x="2513520" y="2971800"/>
              <a:ext cx="1210680" cy="15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Times New Roman"/>
                </a:rPr>
                <a:t>NPo</a:t>
              </a: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7"/>
            <p:cNvSpPr/>
            <p:nvPr/>
          </p:nvSpPr>
          <p:spPr>
            <a:xfrm>
              <a:off x="2666880" y="3809880"/>
              <a:ext cx="7239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560" y="2057040"/>
            <a:ext cx="855324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Dividend Growth Mode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en-US" sz="4800" spc="-1" strike="noStrike" baseline="-25000">
                <a:solidFill>
                  <a:srgbClr val="ffff00"/>
                </a:solidFill>
                <a:latin typeface="Times New Roman"/>
              </a:rPr>
              <a:t>nc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=           + g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Oval 3"/>
          <p:cNvSpPr/>
          <p:nvPr/>
        </p:nvSpPr>
        <p:spPr>
          <a:xfrm>
            <a:off x="2514600" y="3809880"/>
            <a:ext cx="1168560" cy="76212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2514600" y="488880"/>
            <a:ext cx="566424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st of External Equit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94" name="Group 5"/>
          <p:cNvGrpSpPr/>
          <p:nvPr/>
        </p:nvGrpSpPr>
        <p:grpSpPr>
          <a:xfrm>
            <a:off x="2513520" y="2971800"/>
            <a:ext cx="6280920" cy="3275640"/>
            <a:chOff x="2513520" y="2971800"/>
            <a:chExt cx="6280920" cy="3275640"/>
          </a:xfrm>
        </p:grpSpPr>
        <p:sp>
          <p:nvSpPr>
            <p:cNvPr id="295" name="Rectangle 6"/>
            <p:cNvSpPr/>
            <p:nvPr/>
          </p:nvSpPr>
          <p:spPr>
            <a:xfrm>
              <a:off x="2513520" y="2971800"/>
              <a:ext cx="1210680" cy="15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Times New Roman"/>
                </a:rPr>
                <a:t>NPo</a:t>
              </a:r>
              <a:endParaRPr b="1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Line 7"/>
            <p:cNvSpPr/>
            <p:nvPr/>
          </p:nvSpPr>
          <p:spPr>
            <a:xfrm>
              <a:off x="2666880" y="3809880"/>
              <a:ext cx="7239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Rectangle 8"/>
            <p:cNvSpPr/>
            <p:nvPr/>
          </p:nvSpPr>
          <p:spPr>
            <a:xfrm>
              <a:off x="3886560" y="5057640"/>
              <a:ext cx="49078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Net proceeds to the firm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after flotation costs!</a:t>
              </a:r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9"/>
            <p:cNvSpPr/>
            <p:nvPr/>
          </p:nvSpPr>
          <p:spPr>
            <a:xfrm flipH="1" flipV="1">
              <a:off x="3429000" y="4495680"/>
              <a:ext cx="533520" cy="7048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7920" y="488880"/>
            <a:ext cx="66355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Weighted Cost of Capita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weighted cost of capital is just the weighted average cost of all of the financing sourc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47920" y="544320"/>
            <a:ext cx="663552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Weighted Cost of Capita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6400" y="2101320"/>
            <a:ext cx="7359840" cy="34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pital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Source            Cost             Structur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ebt                 6%                    20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preferred        10%                  10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ommon          16%                  70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eighted cost of capital =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20 (6%) + .10 (10%) + .70 (16%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3.4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1447560" y="241200"/>
            <a:ext cx="7003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Weighted Cost of Capital</a:t>
            </a:r>
            <a:br>
              <a:rPr sz="3600"/>
            </a:b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(20% debt, 10% preferred, 70% common)</a:t>
            </a:r>
            <a:endParaRPr b="0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38120" y="1828800"/>
            <a:ext cx="815328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orporate Finance: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The 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Financing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Decision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ost of capit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Leverag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apital Structur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ividend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139160" cy="88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Where we’re going...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pull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28200" y="2361960"/>
            <a:ext cx="815364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ssets                              Liabilities &amp; Equ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assets                 Curr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ixed assets                      Long-term 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                        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eferred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                        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mmon Equ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4095720" y="2857680"/>
            <a:ext cx="0" cy="300960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/>
          <p:cNvSpPr/>
          <p:nvPr/>
        </p:nvSpPr>
        <p:spPr>
          <a:xfrm>
            <a:off x="4635360" y="2254320"/>
            <a:ext cx="3988080" cy="372096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28200" y="2361960"/>
            <a:ext cx="815364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ssets                              Liabilities &amp; Equ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assets                 Curr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ixed assets                      Long-term 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                        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eferred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                        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mmon Equ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4095720" y="2857680"/>
            <a:ext cx="0" cy="300960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489120" y="531720"/>
            <a:ext cx="457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financing decision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5543640" y="1066680"/>
            <a:ext cx="514440" cy="108612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4"/>
          <p:cNvSpPr/>
          <p:nvPr/>
        </p:nvSpPr>
        <p:spPr>
          <a:xfrm>
            <a:off x="4095720" y="2857680"/>
            <a:ext cx="0" cy="300960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120" y="2361960"/>
            <a:ext cx="815364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ssets                              Liabilities &amp; Equ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assets                 Curr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Long-term 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                        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eferred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                        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mmon Equ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2"/>
          <p:cNvSpPr/>
          <p:nvPr/>
        </p:nvSpPr>
        <p:spPr>
          <a:xfrm>
            <a:off x="4095720" y="2857680"/>
            <a:ext cx="0" cy="3009600"/>
          </a:xfrm>
          <a:prstGeom prst="line">
            <a:avLst/>
          </a:prstGeom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3"/>
          <p:cNvSpPr/>
          <p:nvPr/>
        </p:nvSpPr>
        <p:spPr>
          <a:xfrm>
            <a:off x="533520" y="4038480"/>
            <a:ext cx="8089920" cy="1936800"/>
          </a:xfrm>
          <a:prstGeom prst="roundRect">
            <a:avLst>
              <a:gd name="adj" fmla="val 12495"/>
            </a:avLst>
          </a:prstGeom>
          <a:blipFill rotWithShape="0">
            <a:blip r:embed="rId1"/>
            <a:srcRect/>
            <a:tile tx="0" ty="0" sx="100000" sy="100000" algn="ctr"/>
          </a:blip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09120" y="2361960"/>
            <a:ext cx="815364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ssets                              Liabilities &amp; Equ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assets                 Curr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Long-term d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                        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referred St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                        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mmon Equ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 flipH="1" rot="10795800">
            <a:off x="4197960" y="4189320"/>
            <a:ext cx="83124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ff00"/>
                </a:solidFill>
                <a:latin typeface="Times New Roman"/>
              </a:rPr>
              <a:t>}</a:t>
            </a:r>
            <a:endParaRPr b="1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793800" y="4648320"/>
            <a:ext cx="3626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pital Structure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2T10:59:20Z</dcterms:created>
  <dc:creator>Anthony K. Byrd, Associate Professor of Finance</dc:creator>
  <dc:description/>
  <cp:keywords>Cost of Capital</cp:keywords>
  <dc:language>en-US</dc:language>
  <cp:lastModifiedBy>keran sohail</cp:lastModifiedBy>
  <dcterms:modified xsi:type="dcterms:W3CDTF">2020-04-02T06:28:13Z</dcterms:modified>
  <cp:revision>20</cp:revision>
  <dc:subject>Ch. 12:  Cost of Capital</dc:subject>
  <dc:title>Financial Management</dc:title>
</cp:coreProperties>
</file>